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8C5-2E51-4F10-92E9-E6DFDB2B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A7D-77EC-49AB-BC06-A2F927A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DB7-10F8-4CD5-9029-2905D8C2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4F2-1338-4565-A76B-5F3D50C1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7B4-43A5-4B7B-AAA4-8756A559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6CC-1643-4BB8-81FB-910E0BB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B54-B6A3-435C-A217-C1AE03C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431-086E-4AC5-8A69-21EB64C4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A4B-243A-452B-A932-E46AA74B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61E-E6F7-487D-8153-5459587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764-E727-49AC-9D77-E965363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1BA-65F5-4A43-B852-5E7233C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CE2F9-DEB0-432C-83B7-DCC08D29B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4644" t="3300" r="35747" b="95108"/>
          <a:stretch/>
        </p:blipFill>
        <p:spPr>
          <a:xfrm>
            <a:off x="0" y="-4680"/>
            <a:ext cx="9144000" cy="2919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287280"/>
            <a:ext cx="9144000" cy="1741680"/>
          </a:xfrm>
          <a:prstGeom prst="rect">
            <a:avLst/>
          </a:prstGeom>
          <a:solidFill>
            <a:srgbClr val="c3d69b"/>
          </a:solidFill>
          <a:ln w="9360">
            <a:solidFill>
              <a:srgbClr val="c3d69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3f68"/>
                </a:solidFill>
                <a:latin typeface="Calibri"/>
              </a:rPr>
              <a:t>Ask Your Question here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1228680"/>
            <a:ext cx="41450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e3f68"/>
                </a:solidFill>
                <a:latin typeface="Calibri"/>
              </a:rPr>
              <a:t>What is the function of the nucleu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6520" y="22114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Bes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870480" y="2895480"/>
            <a:ext cx="75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dy:  The nucleus is like the brain (control center) of the cell.  DNA is found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ucleus, and gives orders to the various cell structures of the cell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to do.  The cell structures do as they are told by the DN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081760" y="4467240"/>
            <a:ext cx="30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50% of people like this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486240" y="324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NEED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6:49:44Z</dcterms:created>
  <dc:creator>Michael Dianovsky</dc:creator>
  <dc:description/>
  <dc:language>en-US</dc:language>
  <cp:lastModifiedBy>Chris</cp:lastModifiedBy>
  <dcterms:modified xsi:type="dcterms:W3CDTF">2012-03-12T01:36:51Z</dcterms:modified>
  <cp:revision>2</cp:revision>
  <dc:subject/>
  <dc:title>Slide 1</dc:title>
</cp:coreProperties>
</file>