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4DCB-C1F1-4660-A505-15969E75D6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F681-769B-475E-8DFC-57E7C4710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asize that the steps match exactly, and that’s why they think that this evidence strongly supports the instructions mod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e nuclei in chicken blood cells.  (Chicken blood cells do have nuclei, unlike human blood cell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i in onion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F21-8B30-457D-A281-BF1FB95B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CC8-944F-4136-B629-A380FB01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974-3B44-4732-AE6F-D1293B70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E2D-7D8D-43FD-945C-64641E63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6ED-B36D-4831-8F6E-B9B2090E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CD4-0796-49FF-9FDA-F6098E8D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31B-166D-4DEE-9B31-E216C6E0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946-3C10-4776-80BC-BB04E182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52D-118F-412C-8844-D9B7BE50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D96-190A-4CC6-859F-8C9CFA6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73D-CBB8-4B71-9F1F-C1C09B41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191-227E-44C1-BD89-83D03F5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4A14-59B4-4910-90C7-03C10504B9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8608-05D9-48FB-B348-34BC53242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98200" y="533520"/>
            <a:ext cx="487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C.  Headache Medicine - Tylen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28840" y="1752480"/>
            <a:ext cx="8107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 women was interviewed by a local news reporter t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termine which medicine she thinks is best in mak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er headaches go aw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woman responded, “I always take Tylenol f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y headaches and it usually makes my headach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o away in about an hour.  So I would say Tylenol ev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ough I really have not tried other types of medication.”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152280" y="533520"/>
            <a:ext cx="8991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ome jellyfish glow because of a protein called GFP prote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ome scientists think there is a gene that gives instructions to make the GFP protein. They took this gene from a jellyfish and put it into the egg cells of cats. The eggs were fertilized, and the egg developed into c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MC900057218.WMF"/>
          <p:cNvPicPr/>
          <p:nvPr/>
        </p:nvPicPr>
        <p:blipFill>
          <a:blip r:embed="rId1"/>
          <a:stretch/>
        </p:blipFill>
        <p:spPr>
          <a:xfrm>
            <a:off x="0" y="2666880"/>
            <a:ext cx="2228760" cy="2140200"/>
          </a:xfrm>
          <a:prstGeom prst="rect">
            <a:avLst/>
          </a:prstGeom>
          <a:ln w="0">
            <a:noFill/>
          </a:ln>
        </p:spPr>
      </p:pic>
      <p:sp>
        <p:nvSpPr>
          <p:cNvPr id="85" name="Oval 36"/>
          <p:cNvSpPr/>
          <p:nvPr/>
        </p:nvSpPr>
        <p:spPr>
          <a:xfrm>
            <a:off x="365760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32004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gg cell from a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4191120" y="2971800"/>
            <a:ext cx="380880" cy="76320"/>
            <a:chOff x="4191120" y="2971800"/>
            <a:chExt cx="380880" cy="76320"/>
          </a:xfrm>
        </p:grpSpPr>
        <p:sp>
          <p:nvSpPr>
            <p:cNvPr id="88" name="Oval 18"/>
            <p:cNvSpPr/>
            <p:nvPr/>
          </p:nvSpPr>
          <p:spPr>
            <a:xfrm>
              <a:off x="4191120" y="2971800"/>
              <a:ext cx="136440" cy="76320"/>
            </a:xfrm>
            <a:prstGeom prst="ellips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4332240" y="2997360"/>
              <a:ext cx="239760" cy="28440"/>
            </a:xfrm>
            <a:custGeom>
              <a:avLst/>
              <a:gdLst/>
              <a:ahLst/>
              <a:rect l="l" t="t" r="r" b="b"/>
              <a:pathLst>
                <a:path w="1199213" h="227655">
                  <a:moveTo>
                    <a:pt x="0" y="92744"/>
                  </a:moveTo>
                  <a:cubicBezTo>
                    <a:pt x="124918" y="62764"/>
                    <a:pt x="246971" y="16022"/>
                    <a:pt x="374754" y="2803"/>
                  </a:cubicBezTo>
                  <a:cubicBezTo>
                    <a:pt x="401845" y="0"/>
                    <a:pt x="459331" y="81436"/>
                    <a:pt x="479685" y="92744"/>
                  </a:cubicBezTo>
                  <a:cubicBezTo>
                    <a:pt x="507310" y="108091"/>
                    <a:pt x="539646" y="112731"/>
                    <a:pt x="569626" y="122724"/>
                  </a:cubicBezTo>
                  <a:cubicBezTo>
                    <a:pt x="608154" y="135566"/>
                    <a:pt x="633151" y="145176"/>
                    <a:pt x="674557" y="152704"/>
                  </a:cubicBezTo>
                  <a:cubicBezTo>
                    <a:pt x="709320" y="159024"/>
                    <a:pt x="744512" y="162697"/>
                    <a:pt x="779489" y="167694"/>
                  </a:cubicBezTo>
                  <a:cubicBezTo>
                    <a:pt x="886521" y="203372"/>
                    <a:pt x="843135" y="180145"/>
                    <a:pt x="914400" y="227655"/>
                  </a:cubicBezTo>
                  <a:cubicBezTo>
                    <a:pt x="939384" y="222658"/>
                    <a:pt x="966156" y="223208"/>
                    <a:pt x="989351" y="212665"/>
                  </a:cubicBezTo>
                  <a:cubicBezTo>
                    <a:pt x="1022153" y="197755"/>
                    <a:pt x="1047064" y="168818"/>
                    <a:pt x="1079292" y="152704"/>
                  </a:cubicBezTo>
                  <a:cubicBezTo>
                    <a:pt x="1129084" y="127809"/>
                    <a:pt x="1141850" y="124525"/>
                    <a:pt x="1184223" y="92744"/>
                  </a:cubicBezTo>
                  <a:cubicBezTo>
                    <a:pt x="1189876" y="88504"/>
                    <a:pt x="1194216" y="82750"/>
                    <a:pt x="1199213" y="77753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0" name="Straight Arrow Connector 26"/>
          <p:cNvCxnSpPr/>
          <p:nvPr/>
        </p:nvCxnSpPr>
        <p:spPr>
          <a:xfrm>
            <a:off x="4876920" y="3047760"/>
            <a:ext cx="175320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  <p:pic>
        <p:nvPicPr>
          <p:cNvPr id="91" name="Picture 5" descr="http://blogs.scientificamerican.com/observations/2011/09/12/jellyfish-genes-make-glow-in-the-dark-cats/"/>
          <p:cNvPicPr/>
          <p:nvPr/>
        </p:nvPicPr>
        <p:blipFill>
          <a:blip r:embed="rId2"/>
          <a:srcRect l="-12804" t="0" r="-12804" b="0"/>
          <a:stretch/>
        </p:blipFill>
        <p:spPr>
          <a:xfrm>
            <a:off x="6629400" y="1981080"/>
            <a:ext cx="2971800" cy="306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MC900278848.WM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>
            <a:off x="3733920" y="2895480"/>
            <a:ext cx="201600" cy="22392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26"/>
          <p:cNvCxnSpPr/>
          <p:nvPr/>
        </p:nvCxnSpPr>
        <p:spPr>
          <a:xfrm flipH="1">
            <a:off x="2285280" y="3048120"/>
            <a:ext cx="762840" cy="360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  <p:pic>
        <p:nvPicPr>
          <p:cNvPr id="94" name="Picture 15" descr="cell model with nucleus and genes copy"/>
          <p:cNvPicPr/>
          <p:nvPr/>
        </p:nvPicPr>
        <p:blipFill>
          <a:blip r:embed="rId4"/>
          <a:srcRect l="7205" t="14397" r="14397" b="21602"/>
          <a:stretch/>
        </p:blipFill>
        <p:spPr>
          <a:xfrm>
            <a:off x="5867280" y="4876920"/>
            <a:ext cx="2210040" cy="180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1143000" y="4876920"/>
            <a:ext cx="46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GFP gene from the jellyfish was in the nucleus of all the cats’ cells. The GFP protein was in all the cats’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7051680" y="1704960"/>
            <a:ext cx="2050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http://www.blogcdn.com/www.pawnation.com/media/2013/04/screen-shot-2013-04-30-at-11.30.39-am.p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14 -0.00856 C -0.02969 -0.01041 -0.03386 -0.01064 -0.0415 -0.01734 C -0.04861 -0.03122 -0.05035 -0.02821 -0.06441 -0.02613 C -0.06979 -0.02359 -0.07257 -0.0185 -0.07761 -0.01526 E">
                                      <p:cBhvr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858000" cy="278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ell model with nucleus and genes copy"/>
          <p:cNvPicPr/>
          <p:nvPr/>
        </p:nvPicPr>
        <p:blipFill>
          <a:blip r:embed="rId2"/>
          <a:stretch/>
        </p:blipFill>
        <p:spPr>
          <a:xfrm>
            <a:off x="914400" y="41911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83808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83400" y="365760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FP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 into ca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cell model with nucleus and genes copy"/>
          <p:cNvPicPr/>
          <p:nvPr/>
        </p:nvPicPr>
        <p:blipFill>
          <a:blip r:embed="rId3"/>
          <a:stretch/>
        </p:blipFill>
        <p:spPr>
          <a:xfrm>
            <a:off x="3124080" y="4419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02" name="Line 10"/>
          <p:cNvSpPr/>
          <p:nvPr/>
        </p:nvSpPr>
        <p:spPr>
          <a:xfrm>
            <a:off x="4038480" y="42670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6386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FP protein in the cell makes the cats g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cell model with nucleus and genes copy"/>
          <p:cNvPicPr/>
          <p:nvPr/>
        </p:nvPicPr>
        <p:blipFill>
          <a:blip r:embed="rId4"/>
          <a:stretch/>
        </p:blipFill>
        <p:spPr>
          <a:xfrm>
            <a:off x="5715000" y="42670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ttp://blogs.scientificamerican.com/observations/2011/09/12/jellyfish-genes-make-glow-in-the-dark-cats/"/>
          <p:cNvPicPr/>
          <p:nvPr/>
        </p:nvPicPr>
        <p:blipFill>
          <a:blip r:embed="rId5"/>
          <a:srcRect l="-12784" t="0" r="-12784" b="0"/>
          <a:stretch/>
        </p:blipFill>
        <p:spPr>
          <a:xfrm>
            <a:off x="7238880" y="5257800"/>
            <a:ext cx="1195560" cy="1231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517840" y="3581280"/>
            <a:ext cx="30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FP gene gives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ake GFP protei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op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ext 3 slides show a 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Evidence #5 (Diabete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0160" y="0"/>
            <a:ext cx="81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is is what the scientists think abou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most healthy peop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5872320" y="590400"/>
            <a:ext cx="131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suli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319880" y="639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834520" y="1855800"/>
            <a:ext cx="274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The DRB protein hel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sure tha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produce insul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they are healt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09960" y="2208240"/>
            <a:ext cx="409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The DRB gene gives instr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ake the DRB prote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the DRB protein is in their cel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ell model with nucleus and genes copy"/>
          <p:cNvPicPr/>
          <p:nvPr/>
        </p:nvPicPr>
        <p:blipFill>
          <a:blip r:embed="rId2"/>
          <a:stretch/>
        </p:blipFill>
        <p:spPr>
          <a:xfrm>
            <a:off x="1604880" y="614520"/>
            <a:ext cx="1430280" cy="1430280"/>
          </a:xfrm>
          <a:prstGeom prst="rect">
            <a:avLst/>
          </a:prstGeom>
          <a:ln w="0">
            <a:noFill/>
          </a:ln>
        </p:spPr>
      </p:pic>
      <p:sp>
        <p:nvSpPr>
          <p:cNvPr id="115" name="Oval 8"/>
          <p:cNvSpPr/>
          <p:nvPr/>
        </p:nvSpPr>
        <p:spPr>
          <a:xfrm>
            <a:off x="2028960" y="961920"/>
            <a:ext cx="88920" cy="88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2247840" y="914400"/>
            <a:ext cx="88920" cy="88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2400480" y="1066680"/>
            <a:ext cx="88560" cy="88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2552760" y="1219320"/>
            <a:ext cx="88920" cy="88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2362320" y="1438200"/>
            <a:ext cx="88920" cy="88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2038320" y="1476360"/>
            <a:ext cx="88920" cy="88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1866960" y="1371600"/>
            <a:ext cx="88920" cy="88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1809720" y="1257480"/>
            <a:ext cx="88920" cy="88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6"/>
          <p:cNvSpPr/>
          <p:nvPr/>
        </p:nvSpPr>
        <p:spPr>
          <a:xfrm>
            <a:off x="1876320" y="1066680"/>
            <a:ext cx="88920" cy="88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7"/>
          <p:cNvSpPr/>
          <p:nvPr/>
        </p:nvSpPr>
        <p:spPr>
          <a:xfrm flipV="1">
            <a:off x="2308320" y="1136160"/>
            <a:ext cx="96840" cy="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2286000" y="1353960"/>
            <a:ext cx="8748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H="1">
            <a:off x="2068200" y="1376280"/>
            <a:ext cx="65160" cy="1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H="1">
            <a:off x="1915920" y="1309680"/>
            <a:ext cx="9828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 flipV="1">
            <a:off x="2176560" y="995040"/>
            <a:ext cx="66600" cy="1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3462480" y="1374840"/>
            <a:ext cx="2090520" cy="20520"/>
          </a:xfrm>
          <a:prstGeom prst="line">
            <a:avLst/>
          </a:prstGeom>
          <a:ln w="15228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99880" y="1876320"/>
            <a:ext cx="43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They have a DRB gene in thei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0" y="3152880"/>
            <a:ext cx="914400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cell model with nucleus and genes copy"/>
          <p:cNvPicPr/>
          <p:nvPr/>
        </p:nvPicPr>
        <p:blipFill>
          <a:blip r:embed="rId3"/>
          <a:stretch/>
        </p:blipFill>
        <p:spPr>
          <a:xfrm>
            <a:off x="1187280" y="3914640"/>
            <a:ext cx="1430640" cy="143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6"/>
          <p:cNvSpPr/>
          <p:nvPr/>
        </p:nvSpPr>
        <p:spPr>
          <a:xfrm>
            <a:off x="2443320" y="4062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D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Prot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7" descr=""/>
          <p:cNvPicPr/>
          <p:nvPr/>
        </p:nvPicPr>
        <p:blipFill>
          <a:blip r:embed="rId4"/>
          <a:stretch/>
        </p:blipFill>
        <p:spPr>
          <a:xfrm>
            <a:off x="6910560" y="413388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28"/>
          <p:cNvSpPr txBox="1"/>
          <p:nvPr/>
        </p:nvSpPr>
        <p:spPr>
          <a:xfrm>
            <a:off x="5402160" y="3862440"/>
            <a:ext cx="1866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No insul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3701880" y="4659480"/>
            <a:ext cx="1393920" cy="7920"/>
          </a:xfrm>
          <a:prstGeom prst="line">
            <a:avLst/>
          </a:prstGeom>
          <a:ln w="15228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167400" y="3249720"/>
            <a:ext cx="89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is is what the scientists think abou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most people with diabet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759240" y="5230800"/>
            <a:ext cx="36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They have a mutated DRB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does not work prope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752400" y="5870520"/>
            <a:ext cx="46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The DRB gene do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ive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ake the DRB protein. So ther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RB protein in thei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5686560" y="5472000"/>
            <a:ext cx="34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Because ther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 DRB protein,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ten cannot prod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in, and they get diabe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2"/>
          <p:cNvSpPr/>
          <p:nvPr/>
        </p:nvSpPr>
        <p:spPr>
          <a:xfrm>
            <a:off x="228600" y="2286000"/>
            <a:ext cx="876312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ost people with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utated                 no DRB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iabetes had:                      DRB gene             in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st healthy                       normal                  normal DRB people had:                         DRB gene            protein in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457200" y="35812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3352680" y="25909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7"/>
          <p:cNvSpPr/>
          <p:nvPr/>
        </p:nvSpPr>
        <p:spPr>
          <a:xfrm>
            <a:off x="311400" y="762120"/>
            <a:ext cx="68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ientists studied 10 people with Type 1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10 healthy people.  Here are their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op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1843920" y="533520"/>
            <a:ext cx="444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D.  Headache Medicine - Adv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63400" y="1752480"/>
            <a:ext cx="847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 scientist wanted to know if Advil helped people suff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rom headaches.  He asked 10,000 people who we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ffering from headaches to take Advil and report how th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elt an hour after taking the medicin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Result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89% of the people said their headache was gon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fter an hour, while 9% of people said they still had the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eadache after an hour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ext 5 slides are part of the introduction to the nucleus less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nucleus d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86400" cy="3452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3335400" y="5213520"/>
            <a:ext cx="262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thumbs.dreamstime.com/thumblarge_302/12196090526aTv02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nucleu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429000" y="5367240"/>
            <a:ext cx="2590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microbehunter.com/wp/wp-content/uploads/2009/onion1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is large, Genes are sm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28840" y="15998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NA exists in the nucleus as long strings of chemic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 are small bits of chemicals along the much larger string of DNA.  There can be thousands of genes lined up on one DNA str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Ron\Desktop\DNA bit.jpg"/>
          <p:cNvPicPr/>
          <p:nvPr/>
        </p:nvPicPr>
        <p:blipFill>
          <a:blip r:embed="rId1"/>
          <a:stretch/>
        </p:blipFill>
        <p:spPr>
          <a:xfrm>
            <a:off x="2027160" y="2133720"/>
            <a:ext cx="601920" cy="3722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34360" y="360036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eft Brace 4"/>
          <p:cNvSpPr/>
          <p:nvPr/>
        </p:nvSpPr>
        <p:spPr>
          <a:xfrm>
            <a:off x="1239840" y="2133720"/>
            <a:ext cx="762120" cy="358128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3581280"/>
              <a:gd name="textAreaBottom" fmla="*/ 35614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2"/>
                  <a:pt x="10800" y="383"/>
                </a:cubicBezTo>
                <a:lnTo>
                  <a:pt x="10800" y="10417"/>
                </a:lnTo>
                <a:cubicBezTo>
                  <a:pt x="10800" y="10609"/>
                  <a:pt x="5400" y="10800"/>
                  <a:pt x="0" y="10800"/>
                </a:cubicBezTo>
                <a:cubicBezTo>
                  <a:pt x="5400" y="10800"/>
                  <a:pt x="10800" y="10992"/>
                  <a:pt x="10800" y="11183"/>
                </a:cubicBezTo>
                <a:lnTo>
                  <a:pt x="10800" y="21217"/>
                </a:lnTo>
                <a:cubicBezTo>
                  <a:pt x="10800" y="214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193920" y="202104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7"/>
          <p:cNvCxnSpPr/>
          <p:nvPr/>
        </p:nvCxnSpPr>
        <p:spPr>
          <a:xfrm flipH="1" flipV="1">
            <a:off x="2696760" y="2361600"/>
            <a:ext cx="51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9"/>
          <p:cNvSpPr/>
          <p:nvPr/>
        </p:nvSpPr>
        <p:spPr>
          <a:xfrm>
            <a:off x="3211200" y="236232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10"/>
          <p:cNvCxnSpPr>
            <a:stCxn id="66" idx="1"/>
          </p:cNvCxnSpPr>
          <p:nvPr/>
        </p:nvCxnSpPr>
        <p:spPr>
          <a:xfrm flipH="1" flipV="1">
            <a:off x="2687040" y="2685240"/>
            <a:ext cx="518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11"/>
          <p:cNvSpPr/>
          <p:nvPr/>
        </p:nvSpPr>
        <p:spPr>
          <a:xfrm>
            <a:off x="3211200" y="274320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2"/>
          <p:cNvCxnSpPr>
            <a:stCxn id="68" idx="1"/>
          </p:cNvCxnSpPr>
          <p:nvPr/>
        </p:nvCxnSpPr>
        <p:spPr>
          <a:xfrm flipH="1" flipV="1">
            <a:off x="2687040" y="3066480"/>
            <a:ext cx="518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8"/>
          <p:cNvSpPr/>
          <p:nvPr/>
        </p:nvSpPr>
        <p:spPr>
          <a:xfrm>
            <a:off x="2697120" y="3600360"/>
            <a:ext cx="220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band of blue or white represents a gene. There are many more genes than we can show here in this small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cell model with nucleus and genes copy"/>
          <p:cNvPicPr/>
          <p:nvPr/>
        </p:nvPicPr>
        <p:blipFill>
          <a:blip r:embed="rId1"/>
          <a:stretch/>
        </p:blipFill>
        <p:spPr>
          <a:xfrm>
            <a:off x="-190440" y="-133344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973240" y="-70956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910280" y="10666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1295280" y="457200"/>
            <a:ext cx="14479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 flipH="1">
            <a:off x="4191120" y="1295280"/>
            <a:ext cx="3581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4190760" y="1447920"/>
            <a:ext cx="37335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4190760" y="160020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60800" y="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64040" y="6216480"/>
            <a:ext cx="81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he strings of DNA are actually smaller, narrower, and have many more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each string.. We’ve made them easier to see her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op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ext slide has a 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Evidence #2 (Glowing cat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6:24:53Z</dcterms:created>
  <dc:creator>Ron Rinehart</dc:creator>
  <dc:description/>
  <dc:language>en-US</dc:language>
  <cp:lastModifiedBy>Graduate School of Education - Rutgers University</cp:lastModifiedBy>
  <dcterms:modified xsi:type="dcterms:W3CDTF">2014-05-06T17:10:46Z</dcterms:modified>
  <cp:revision>22</cp:revision>
  <dc:subject/>
  <dc:title>DNA and Genes</dc:title>
</cp:coreProperties>
</file>