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05A7-A1E9-4455-88DA-93AA38ED4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CFA1-A40D-4665-910B-C8E647AB67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623F-B172-4259-9EE7-A7DD2EDB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9D96-BCED-4FA6-934C-59C86822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2ADC-6D9C-41B2-A957-093A05D3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FF53-A8B1-4143-B3F5-92F22189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9271-1354-4C61-85A9-A455E44E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97A5-7A89-4C89-AE80-826977A4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B75A-A78A-4616-8C8B-2E002665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2EE9-7A45-479E-9BDC-12F0A175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95BB-9485-40EE-BBD7-4ED9DACC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91EF-37BF-4F8C-B793-79F8BAE4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8489-C099-40A6-A3B4-31C8CDEF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9F0-6176-450D-BAAF-8272D2C4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4373-7555-4937-96E5-11BF121A75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7710-0D08-48FA-B429-781945211E63}" type="slidenum">
              <a:rPr b="1" lang="en-US" sz="2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awberry La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entists use DNA to solve crimes.  How do you think they get the DNA out of the cells they fi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think we can get DNA out of the cells of a plant (strawberries) in our classroom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67D2-664E-419D-9261-268207E31734}" type="slidenum">
              <a:rPr b="1" lang="en-US" sz="2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ap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the scientists pull the DNA out of the cell what do you think they do next with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think they can tell that DNA came from one specific person and not a different pers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C49D-DEC0-403B-9526-384A0ABCC37F}" type="slidenum">
              <a:rPr b="1" lang="en-US" sz="2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5:15:03Z</dcterms:created>
  <dc:creator>Ron</dc:creator>
  <dc:description/>
  <dc:language>en-US</dc:language>
  <cp:lastModifiedBy>Ron</cp:lastModifiedBy>
  <dcterms:modified xsi:type="dcterms:W3CDTF">2013-03-05T22:50:48Z</dcterms:modified>
  <cp:revision>12</cp:revision>
  <dc:subject/>
  <dc:title>Strawberry</dc:title>
</cp:coreProperties>
</file>