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E21ED-0C1B-4804-A4A6-920BEFDE7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05BE0-0262-4EF2-88D6-1EF2C7C62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0B4A2-74D6-4D03-9DDB-874232639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10EEA-0F8E-4018-8F97-3B5457CA9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AAE39-7B26-41DC-81B5-66B57640B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7FC63-9F4D-4BE5-AACE-3865AE6EE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13D7F-3714-4B0F-80C7-80AD0BC82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865BD-FD18-4127-A365-389E91DD4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30F63-19D8-4367-A7F8-6DFE304CF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D91D9-C235-4928-8C0D-EC70FDA12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6D42A-7FF2-4AA9-A485-F65413A38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0EA32-7B5D-438D-98A7-11BA095B1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024AC-5A5C-4A52-8F22-A2A3BF1E923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Users\Ron\Desktop\Newspaper.jpg"/>
          <p:cNvPicPr/>
          <p:nvPr/>
        </p:nvPicPr>
        <p:blipFill>
          <a:blip r:embed="rId1"/>
          <a:stretch/>
        </p:blipFill>
        <p:spPr>
          <a:xfrm>
            <a:off x="0" y="33480"/>
            <a:ext cx="6858000" cy="9110520"/>
          </a:xfrm>
          <a:prstGeom prst="rect">
            <a:avLst/>
          </a:prstGeom>
          <a:ln w="0">
            <a:noFill/>
          </a:ln>
        </p:spPr>
      </p:pic>
      <p:sp>
        <p:nvSpPr>
          <p:cNvPr id="42" name="Rectangle 3"/>
          <p:cNvSpPr/>
          <p:nvPr/>
        </p:nvSpPr>
        <p:spPr>
          <a:xfrm>
            <a:off x="152280" y="1523880"/>
            <a:ext cx="2286000" cy="755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IV is a deadly virus that attacks a person’s immune system. There are tragic stories around the world of entire families being infected by this virus.  One such family lives right here in Bucks County.  They are the Burkes.</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Burkes are a couple with two children.  Everyone in the family except one of the children has been infected by HIV.  The disease has completely disrupted their lives.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trick Burke, the father of the family, was the first to be infected with HIV. He became infected after receiving a blood transfusion using blood from an HIV positive donor. The hospital did not know the blood they</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ere giving Patrick had HIV in it. Fortunately, hospitals now have blood tests to check for HIV so that does not happen any more, but Patrick got the virus before these tests had been invented.</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3" name="Rectangle 4"/>
          <p:cNvSpPr/>
          <p:nvPr/>
        </p:nvSpPr>
        <p:spPr>
          <a:xfrm>
            <a:off x="2527200" y="1574640"/>
            <a:ext cx="2057400" cy="734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trick transmitted the HIV virus to his wife, Lauren, who then passed it to her son Dwight through her pregnancy. HIV is not a genetic disease, but mothers can pass it to fetuses because the virus sometimes passes from the mother’s body to the body of the fetus while the fetus is in their wombs. Lauren and Patrick’s other child, Nikki, who is 4 years old, does not have HIV.</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IV has completely upset the family’s lives. Lauren quit her job because she is too tired to work. Patrick has little energy beyond what his job requires.  Lauren said that she and Patrick cannot even take their children to the playground anymore because they are always too tired. Of course, they also have to face the possibility that they may not live long enough to see Nikki become an adult.</a:t>
            </a:r>
            <a:endParaRPr b="0" lang="en-US" sz="1400" spc="-1" strike="noStrike">
              <a:solidFill>
                <a:srgbClr val="000000"/>
              </a:solidFill>
              <a:latin typeface="Calibri"/>
            </a:endParaRPr>
          </a:p>
        </p:txBody>
      </p:sp>
      <p:sp>
        <p:nvSpPr>
          <p:cNvPr id="44" name="Rectangle 5"/>
          <p:cNvSpPr/>
          <p:nvPr/>
        </p:nvSpPr>
        <p:spPr>
          <a:xfrm>
            <a:off x="4675320" y="3505320"/>
            <a:ext cx="2093760" cy="563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puzzling question is why Nikki is the only one in the family who does not have the disease. Patrick and Lauren believe that they know the answer.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hank goodness,” Patrick said, “Nikki is not sick. We believe that Nikki has a special gene that the rest of us don’t have. Maybe from a mutation. We have heard that there is a special protein called the CCR5 protein that destroys the HIV virus. Nikki must have a gene that gives her cells instructions to make the CCR5 protein. And that protein kills all the viruses that she is exposed to. We are so thankful that she has that gene and that she is going to be OK.”</a:t>
            </a:r>
            <a:endParaRPr b="0" lang="en-US" sz="1400" spc="-1" strike="noStrike">
              <a:solidFill>
                <a:srgbClr val="000000"/>
              </a:solidFill>
              <a:latin typeface="Calibri"/>
            </a:endParaRPr>
          </a:p>
        </p:txBody>
      </p:sp>
      <p:grpSp>
        <p:nvGrpSpPr>
          <p:cNvPr id="45" name="Group 7"/>
          <p:cNvGrpSpPr/>
          <p:nvPr/>
        </p:nvGrpSpPr>
        <p:grpSpPr>
          <a:xfrm>
            <a:off x="4683960" y="304920"/>
            <a:ext cx="2075760" cy="3159000"/>
            <a:chOff x="4683960" y="304920"/>
            <a:chExt cx="2075760" cy="3159000"/>
          </a:xfrm>
        </p:grpSpPr>
        <p:pic>
          <p:nvPicPr>
            <p:cNvPr id="46" name="Picture 5" descr="C:\Users\Ron\Desktop\The Burke Family - Father Mother Son HIV Positve - Daughter Negative.jpg"/>
            <p:cNvPicPr/>
            <p:nvPr/>
          </p:nvPicPr>
          <p:blipFill>
            <a:blip r:embed="rId2"/>
            <a:stretch/>
          </p:blipFill>
          <p:spPr>
            <a:xfrm>
              <a:off x="4683960" y="304920"/>
              <a:ext cx="2075760" cy="2757240"/>
            </a:xfrm>
            <a:prstGeom prst="rect">
              <a:avLst/>
            </a:prstGeom>
            <a:ln w="12600">
              <a:solidFill>
                <a:srgbClr val="000000"/>
              </a:solidFill>
              <a:miter/>
            </a:ln>
          </p:spPr>
        </p:pic>
        <p:sp>
          <p:nvSpPr>
            <p:cNvPr id="47" name="TextBox 6"/>
            <p:cNvSpPr/>
            <p:nvPr/>
          </p:nvSpPr>
          <p:spPr>
            <a:xfrm>
              <a:off x="4687560" y="3065400"/>
              <a:ext cx="2059920" cy="398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ikki (on the right) is HIV negativ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rest of her family is HIV positive.</a:t>
              </a:r>
              <a:endParaRPr b="0" lang="en-US" sz="1000" spc="-1" strike="noStrike">
                <a:solidFill>
                  <a:srgbClr val="000000"/>
                </a:solidFill>
                <a:latin typeface="Calibri"/>
              </a:endParaRPr>
            </a:p>
          </p:txBody>
        </p:sp>
      </p:grpSp>
      <p:sp>
        <p:nvSpPr>
          <p:cNvPr id="48" name="Rectangle 8"/>
          <p:cNvSpPr/>
          <p:nvPr/>
        </p:nvSpPr>
        <p:spPr>
          <a:xfrm>
            <a:off x="228600" y="152280"/>
            <a:ext cx="4495680" cy="109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lephant"/>
              </a:rPr>
              <a:t>Local Family Suffer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lephant"/>
              </a:rPr>
              <a:t>Through HIV Tragedy</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Maria Gutierrez</a:t>
            </a:r>
            <a:endParaRPr b="0" lang="en-US" sz="1800" spc="-1" strike="noStrike">
              <a:solidFill>
                <a:srgbClr val="000000"/>
              </a:solidFill>
              <a:latin typeface="Calibri"/>
            </a:endParaRPr>
          </a:p>
        </p:txBody>
      </p:sp>
      <p:sp>
        <p:nvSpPr>
          <p:cNvPr id="49" name="Straight Connector 10"/>
          <p:cNvSpPr/>
          <p:nvPr/>
        </p:nvSpPr>
        <p:spPr>
          <a:xfrm>
            <a:off x="228600" y="1295280"/>
            <a:ext cx="4267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8:15:45Z</dcterms:created>
  <dc:creator>Ron</dc:creator>
  <dc:description/>
  <dc:language>en-US</dc:language>
  <cp:lastModifiedBy>Praccis</cp:lastModifiedBy>
  <dcterms:modified xsi:type="dcterms:W3CDTF">2013-04-01T21:45:19Z</dcterms:modified>
  <cp:revision>15</cp:revision>
  <dc:subject/>
  <dc:title>PowerPoint Presentation</dc:title>
</cp:coreProperties>
</file>