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7569-6BD2-427C-8843-975C53F91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2C3D-78CC-420A-9259-96DC5F847CEA}" type="slidenum">
              <a:rPr b="0" lang="en-US" sz="1200" spc="-1" strike="noStrike">
                <a:solidFill>
                  <a:srgbClr val="2929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 trait and combine text with pi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 trait and combine text with pi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F162-BF41-4AA9-922D-DE4DB8B5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3C4-F9F9-4720-B3AE-F8DEDD0D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ACCF-1D23-4770-AF20-1172F43D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2F46-5AE9-45B1-8AE4-C17FCA38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6FD3-9044-4EE6-8664-D1CF0750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27D7-30D0-4A19-8487-0CC91DAD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D93B-85CA-4C32-9ABD-F5F02126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B24A-4CCC-4CDE-952B-B979AF9B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B7A1-CC23-4CFE-9356-E211EC24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68AB-8EC6-41F0-B034-2F41920A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B56D-F61D-492A-B843-61E0387F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9BF0-583F-4710-BD75-BF6605D9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0831-76E1-47EB-8416-3CF459B1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CD02-0946-40DA-B1E7-027730F1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BDC5-F98B-453F-8754-87B3EF19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5238-925C-43A7-84C2-E296B454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AD79-F20C-43F6-9B22-E07BE420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0D3CE-7C8D-435F-A84B-A32531DE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E690D-F472-42B1-AC2B-075AF806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A26CC-9A68-4DA4-AFFD-8DCD092E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BB99D-962D-4F64-B604-01B3CA2A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58991-C2A6-4A28-A533-30ED655D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FD58-856E-4FC8-BDD1-F886D45C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59016-5E5E-4AA7-9136-81284EC5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AE96F-42B1-48E9-89E0-5A5E662A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D83B0-0EA8-42AD-A4D7-1D69D62D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EA1D8-E8E3-42CD-850E-E3DA6908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DE42D-30C1-4FB5-8456-4B016CCD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C8BBC-FF7F-437A-8504-8FDB040B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EE5E0-7CCC-4FE6-8C89-4327F49D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997A1-79F5-45F6-B1EC-CA59292D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AD95E-6DEB-4E8C-AB87-1E0188D9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549F7-C67A-4230-8E0C-B43134A5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E98D-9FBB-4B64-9BF3-D210D4BD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7C8EB-EC9E-479B-9204-23BE0D71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4F1EB-963C-4E9A-9222-CFC13F0B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79EAC-47A7-4432-9CA5-200A5C92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2366D-A7C9-4305-96A2-9928C877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1FC86-6347-4671-9FCA-91B47895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DBC04-51BA-4F6F-95DB-99C87F89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034A8-30F9-429F-9A4E-AF77D517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9C186-AE41-474E-83D0-888934FE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95789-4D49-49B6-896F-C7848B06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3D65A-5E5E-494D-869A-DB5222BA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2E6C-AAE1-4042-BD6F-9930036C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5A7EF-8232-4231-B466-67B28E30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AF161-2478-45F5-B361-FE3A74A2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5AF76-D248-4F28-8F44-35CB958D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29B4B-C104-4467-96E8-CA9383A6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0926C-A212-4995-A2A7-E3E6F42B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3B333-2964-4EA3-A180-56373202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AB54D-ABC2-44FC-AAE9-B144431F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EFDFD-DC88-464B-AB02-63B1DB87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E08EF-E537-46A4-8A43-7D82DE20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87406-8FDD-411C-ABF3-07BB8520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231C-1F9A-4F90-8CF4-E8B20606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8AAD6-C2F4-4126-BA0B-C47611CD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2C587-99FC-4310-B9EE-A099EFF3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4182C-2BAB-4B39-B581-916FA7FB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581A5-1A6E-4EBF-80EE-4521147E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A2857-7375-4838-B6BD-E19E4D57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77AE4-BA11-49F4-A8BD-97BF6F22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B52FD-56FD-40BE-91DB-14857A38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D453C-B100-4576-9811-9196971B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36BA9-298B-4B2A-810D-32119152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6D1F0-B498-4C38-B324-B47EF667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316B-C4C2-4D55-BC7A-962A6DF9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155DC-C47B-49D2-9F51-E6485D5E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E1096-AAE4-4253-BC60-F9A6BD3F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74A83-7097-4C08-AB31-87043AE7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26BB-DF57-405C-B6B2-2E3AA993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8201-28DC-4DEC-8E3A-ADB40DEE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6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03B0-C272-41C9-8E75-C2B73CE1E44E}" type="slidenum"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6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1FDC-6759-469A-BD45-7B7EDC2AB61D}" type="slidenum"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086320" y="6477120"/>
            <a:ext cx="106668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4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EA0A-7454-46CF-A0DC-B86550CD3DC5}" type="slidenum"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6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18D9-3441-4E1F-8BC4-85D245D03AE3}" type="slidenum"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6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482D-C96F-4061-AF88-4110B16D5947}" type="slidenum"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0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6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6814-B7EC-40AD-942F-413B8CA649B3}" type="slidenum"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Do Now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8086680" y="6477120"/>
            <a:ext cx="10666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8E30-AA02-4D15-A637-A66BC4A69DEC}" type="slidenum">
              <a:rPr b="1" lang="en-US" sz="4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1"/>
          <a:stretch/>
        </p:blipFill>
        <p:spPr>
          <a:xfrm>
            <a:off x="0" y="1600200"/>
            <a:ext cx="9104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33c"/>
                </a:solidFill>
                <a:latin typeface="Arial"/>
              </a:rPr>
              <a:t>How do you get the alleles you have?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Your parents have two alleles for each trait.  The alleles are separated in the parents egg cells and sperm cell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8086680" y="6477120"/>
            <a:ext cx="10666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5DC4-9FB3-4B99-9211-CDE9721151A7}" type="slidenum">
              <a:rPr b="1" lang="en-US" sz="4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4" name="TextBox 5"/>
          <p:cNvSpPr/>
          <p:nvPr/>
        </p:nvSpPr>
        <p:spPr>
          <a:xfrm>
            <a:off x="1905120" y="2362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Arial"/>
              </a:rPr>
              <a:t>Mother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5" name="TextBox 6"/>
          <p:cNvSpPr/>
          <p:nvPr/>
        </p:nvSpPr>
        <p:spPr>
          <a:xfrm>
            <a:off x="5791320" y="2362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Arial"/>
              </a:rPr>
              <a:t>Father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6" name="TextBox 7"/>
          <p:cNvSpPr/>
          <p:nvPr/>
        </p:nvSpPr>
        <p:spPr>
          <a:xfrm>
            <a:off x="1828800" y="2514600"/>
            <a:ext cx="18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6600" spc="-1" strike="noStrike">
                <a:solidFill>
                  <a:srgbClr val="00b0f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7" name="TextBox 8"/>
          <p:cNvSpPr/>
          <p:nvPr/>
        </p:nvSpPr>
        <p:spPr>
          <a:xfrm>
            <a:off x="5715000" y="2514600"/>
            <a:ext cx="18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6600" spc="-1" strike="noStrike">
                <a:solidFill>
                  <a:srgbClr val="00b0f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292934"/>
              </a:solidFill>
              <a:latin typeface="Arial"/>
            </a:endParaRPr>
          </a:p>
        </p:txBody>
      </p:sp>
      <p:cxnSp>
        <p:nvCxnSpPr>
          <p:cNvPr id="348" name="Straight Arrow Connector 8"/>
          <p:cNvCxnSpPr/>
          <p:nvPr/>
        </p:nvCxnSpPr>
        <p:spPr>
          <a:xfrm flipH="1">
            <a:off x="1599840" y="3504960"/>
            <a:ext cx="381600" cy="533880"/>
          </a:xfrm>
          <a:prstGeom prst="straightConnector1">
            <a:avLst/>
          </a:prstGeom>
          <a:ln w="57240">
            <a:solidFill>
              <a:srgbClr val="93a299"/>
            </a:solidFill>
            <a:miter/>
            <a:tailEnd len="med" type="triangle" w="med"/>
          </a:ln>
        </p:spPr>
      </p:cxnSp>
      <p:cxnSp>
        <p:nvCxnSpPr>
          <p:cNvPr id="349" name="Straight Arrow Connector 9"/>
          <p:cNvCxnSpPr/>
          <p:nvPr/>
        </p:nvCxnSpPr>
        <p:spPr>
          <a:xfrm>
            <a:off x="2895120" y="3504960"/>
            <a:ext cx="381960" cy="533880"/>
          </a:xfrm>
          <a:prstGeom prst="straightConnector1">
            <a:avLst/>
          </a:prstGeom>
          <a:ln w="57240">
            <a:solidFill>
              <a:srgbClr val="93a299"/>
            </a:solidFill>
            <a:miter/>
            <a:tailEnd len="med" type="triangle" w="med"/>
          </a:ln>
        </p:spPr>
      </p:cxnSp>
      <p:cxnSp>
        <p:nvCxnSpPr>
          <p:cNvPr id="350" name="Straight Arrow Connector 10"/>
          <p:cNvCxnSpPr/>
          <p:nvPr/>
        </p:nvCxnSpPr>
        <p:spPr>
          <a:xfrm flipH="1">
            <a:off x="5486040" y="3504960"/>
            <a:ext cx="381600" cy="533880"/>
          </a:xfrm>
          <a:prstGeom prst="straightConnector1">
            <a:avLst/>
          </a:prstGeom>
          <a:ln w="57240">
            <a:solidFill>
              <a:srgbClr val="93a299"/>
            </a:solidFill>
            <a:miter/>
            <a:tailEnd len="med" type="triangle" w="med"/>
          </a:ln>
        </p:spPr>
      </p:cxnSp>
      <p:cxnSp>
        <p:nvCxnSpPr>
          <p:cNvPr id="351" name="Straight Arrow Connector 11"/>
          <p:cNvCxnSpPr/>
          <p:nvPr/>
        </p:nvCxnSpPr>
        <p:spPr>
          <a:xfrm>
            <a:off x="6781320" y="3504960"/>
            <a:ext cx="381960" cy="533880"/>
          </a:xfrm>
          <a:prstGeom prst="straightConnector1">
            <a:avLst/>
          </a:prstGeom>
          <a:ln w="57240">
            <a:solidFill>
              <a:srgbClr val="93a299"/>
            </a:solidFill>
            <a:miter/>
            <a:tailEnd len="med" type="triangle" w="med"/>
          </a:ln>
        </p:spPr>
      </p:cxnSp>
      <p:sp>
        <p:nvSpPr>
          <p:cNvPr id="352" name="Oval 12"/>
          <p:cNvSpPr/>
          <p:nvPr/>
        </p:nvSpPr>
        <p:spPr>
          <a:xfrm>
            <a:off x="1143000" y="4038480"/>
            <a:ext cx="914400" cy="914400"/>
          </a:xfrm>
          <a:prstGeom prst="ellipse">
            <a:avLst/>
          </a:prstGeom>
          <a:solidFill>
            <a:srgbClr val="f2f2f2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3" name="Oval 13"/>
          <p:cNvSpPr/>
          <p:nvPr/>
        </p:nvSpPr>
        <p:spPr>
          <a:xfrm>
            <a:off x="2895480" y="4038480"/>
            <a:ext cx="914400" cy="914400"/>
          </a:xfrm>
          <a:prstGeom prst="ellipse">
            <a:avLst/>
          </a:prstGeom>
          <a:solidFill>
            <a:srgbClr val="f2f2f2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354" name="Group 25" descr=""/>
          <p:cNvPicPr/>
          <p:nvPr/>
        </p:nvPicPr>
        <p:blipFill>
          <a:blip r:embed="rId1"/>
          <a:stretch/>
        </p:blipFill>
        <p:spPr>
          <a:xfrm>
            <a:off x="6900840" y="3932280"/>
            <a:ext cx="1603440" cy="963720"/>
          </a:xfrm>
          <a:prstGeom prst="rect">
            <a:avLst/>
          </a:prstGeom>
          <a:ln w="0">
            <a:noFill/>
          </a:ln>
        </p:spPr>
      </p:pic>
      <p:pic>
        <p:nvPicPr>
          <p:cNvPr id="355" name="Group 24" descr=""/>
          <p:cNvPicPr/>
          <p:nvPr/>
        </p:nvPicPr>
        <p:blipFill>
          <a:blip r:embed="rId2"/>
          <a:stretch/>
        </p:blipFill>
        <p:spPr>
          <a:xfrm>
            <a:off x="4992840" y="3932280"/>
            <a:ext cx="1670040" cy="963720"/>
          </a:xfrm>
          <a:prstGeom prst="rect">
            <a:avLst/>
          </a:prstGeom>
          <a:ln w="0">
            <a:noFill/>
          </a:ln>
        </p:spPr>
      </p:pic>
      <p:sp>
        <p:nvSpPr>
          <p:cNvPr id="356" name="TextBox 22"/>
          <p:cNvSpPr/>
          <p:nvPr/>
        </p:nvSpPr>
        <p:spPr>
          <a:xfrm>
            <a:off x="2138760" y="4659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Egg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7" name="TextBox 23"/>
          <p:cNvSpPr/>
          <p:nvPr/>
        </p:nvSpPr>
        <p:spPr>
          <a:xfrm>
            <a:off x="5949000" y="4419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Sperm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8" name="Content Placeholder 2"/>
          <p:cNvSpPr/>
          <p:nvPr/>
        </p:nvSpPr>
        <p:spPr>
          <a:xfrm>
            <a:off x="45720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parents egg and sperm combine so the kids also have two alleles for each trait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Parent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8086680" y="6477120"/>
            <a:ext cx="10666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5081-6297-4EAC-9B30-C13097736743}" type="slidenum">
              <a:rPr b="1" lang="en-US" sz="4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1905120" y="838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Arial"/>
              </a:rPr>
              <a:t>Mother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2" name="TextBox 6"/>
          <p:cNvSpPr/>
          <p:nvPr/>
        </p:nvSpPr>
        <p:spPr>
          <a:xfrm>
            <a:off x="5791320" y="838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Arial"/>
              </a:rPr>
              <a:t>Father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3" name="TextBox 7"/>
          <p:cNvSpPr/>
          <p:nvPr/>
        </p:nvSpPr>
        <p:spPr>
          <a:xfrm>
            <a:off x="1828800" y="990720"/>
            <a:ext cx="18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6600" spc="-1" strike="noStrike">
                <a:solidFill>
                  <a:srgbClr val="00b0f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4" name="TextBox 8"/>
          <p:cNvSpPr/>
          <p:nvPr/>
        </p:nvSpPr>
        <p:spPr>
          <a:xfrm>
            <a:off x="5715000" y="990720"/>
            <a:ext cx="18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6600" spc="-1" strike="noStrike">
                <a:solidFill>
                  <a:srgbClr val="00b0f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5" name="Title 1"/>
          <p:cNvSpPr/>
          <p:nvPr/>
        </p:nvSpPr>
        <p:spPr>
          <a:xfrm>
            <a:off x="533520" y="59436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Possible Children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cxnSp>
        <p:nvCxnSpPr>
          <p:cNvPr id="366" name="Straight Arrow Connector 11"/>
          <p:cNvCxnSpPr/>
          <p:nvPr/>
        </p:nvCxnSpPr>
        <p:spPr>
          <a:xfrm flipH="1">
            <a:off x="1599840" y="1981080"/>
            <a:ext cx="381600" cy="534240"/>
          </a:xfrm>
          <a:prstGeom prst="straightConnector1">
            <a:avLst/>
          </a:prstGeom>
          <a:ln w="57240">
            <a:solidFill>
              <a:srgbClr val="93a299"/>
            </a:solidFill>
            <a:miter/>
            <a:tailEnd len="med" type="triangle" w="med"/>
          </a:ln>
        </p:spPr>
      </p:cxnSp>
      <p:cxnSp>
        <p:nvCxnSpPr>
          <p:cNvPr id="367" name="Straight Arrow Connector 12"/>
          <p:cNvCxnSpPr/>
          <p:nvPr/>
        </p:nvCxnSpPr>
        <p:spPr>
          <a:xfrm>
            <a:off x="2895120" y="1981080"/>
            <a:ext cx="381960" cy="534240"/>
          </a:xfrm>
          <a:prstGeom prst="straightConnector1">
            <a:avLst/>
          </a:prstGeom>
          <a:ln w="57240">
            <a:solidFill>
              <a:srgbClr val="93a299"/>
            </a:solidFill>
            <a:miter/>
            <a:tailEnd len="med" type="triangle" w="med"/>
          </a:ln>
        </p:spPr>
      </p:cxnSp>
      <p:cxnSp>
        <p:nvCxnSpPr>
          <p:cNvPr id="368" name="Straight Arrow Connector 14"/>
          <p:cNvCxnSpPr/>
          <p:nvPr/>
        </p:nvCxnSpPr>
        <p:spPr>
          <a:xfrm flipH="1">
            <a:off x="5486040" y="1981080"/>
            <a:ext cx="381600" cy="534240"/>
          </a:xfrm>
          <a:prstGeom prst="straightConnector1">
            <a:avLst/>
          </a:prstGeom>
          <a:ln w="57240">
            <a:solidFill>
              <a:srgbClr val="93a299"/>
            </a:solidFill>
            <a:miter/>
            <a:tailEnd len="med" type="triangle" w="med"/>
          </a:ln>
        </p:spPr>
      </p:cxnSp>
      <p:cxnSp>
        <p:nvCxnSpPr>
          <p:cNvPr id="369" name="Straight Arrow Connector 15"/>
          <p:cNvCxnSpPr/>
          <p:nvPr/>
        </p:nvCxnSpPr>
        <p:spPr>
          <a:xfrm>
            <a:off x="6781320" y="1981080"/>
            <a:ext cx="381960" cy="534240"/>
          </a:xfrm>
          <a:prstGeom prst="straightConnector1">
            <a:avLst/>
          </a:prstGeom>
          <a:ln w="57240">
            <a:solidFill>
              <a:srgbClr val="93a299"/>
            </a:solidFill>
            <a:miter/>
            <a:tailEnd len="med" type="triangle" w="med"/>
          </a:ln>
        </p:spPr>
      </p:cxnSp>
      <p:sp>
        <p:nvSpPr>
          <p:cNvPr id="370" name="Oval 16"/>
          <p:cNvSpPr/>
          <p:nvPr/>
        </p:nvSpPr>
        <p:spPr>
          <a:xfrm>
            <a:off x="1143000" y="2514600"/>
            <a:ext cx="914400" cy="914400"/>
          </a:xfrm>
          <a:prstGeom prst="ellipse">
            <a:avLst/>
          </a:prstGeom>
          <a:solidFill>
            <a:srgbClr val="f2f2f2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1" name="Oval 17"/>
          <p:cNvSpPr/>
          <p:nvPr/>
        </p:nvSpPr>
        <p:spPr>
          <a:xfrm>
            <a:off x="2895480" y="2514600"/>
            <a:ext cx="914400" cy="914400"/>
          </a:xfrm>
          <a:prstGeom prst="ellipse">
            <a:avLst/>
          </a:prstGeom>
          <a:solidFill>
            <a:srgbClr val="f2f2f2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372" name="Group 25" descr=""/>
          <p:cNvPicPr/>
          <p:nvPr/>
        </p:nvPicPr>
        <p:blipFill>
          <a:blip r:embed="rId1"/>
          <a:stretch/>
        </p:blipFill>
        <p:spPr>
          <a:xfrm>
            <a:off x="6900840" y="2408400"/>
            <a:ext cx="1603440" cy="963360"/>
          </a:xfrm>
          <a:prstGeom prst="rect">
            <a:avLst/>
          </a:prstGeom>
          <a:ln w="0">
            <a:noFill/>
          </a:ln>
        </p:spPr>
      </p:pic>
      <p:pic>
        <p:nvPicPr>
          <p:cNvPr id="373" name="Group 24" descr=""/>
          <p:cNvPicPr/>
          <p:nvPr/>
        </p:nvPicPr>
        <p:blipFill>
          <a:blip r:embed="rId2"/>
          <a:stretch/>
        </p:blipFill>
        <p:spPr>
          <a:xfrm>
            <a:off x="4992840" y="2408400"/>
            <a:ext cx="1670040" cy="963360"/>
          </a:xfrm>
          <a:prstGeom prst="rect">
            <a:avLst/>
          </a:prstGeom>
          <a:ln w="0">
            <a:noFill/>
          </a:ln>
        </p:spPr>
      </p:pic>
      <p:sp>
        <p:nvSpPr>
          <p:cNvPr id="374" name="TextBox 22"/>
          <p:cNvSpPr/>
          <p:nvPr/>
        </p:nvSpPr>
        <p:spPr>
          <a:xfrm>
            <a:off x="2138760" y="31352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Eggs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5" name="TextBox 23"/>
          <p:cNvSpPr/>
          <p:nvPr/>
        </p:nvSpPr>
        <p:spPr>
          <a:xfrm>
            <a:off x="5949000" y="28954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Sperm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6" name="TextBox 34"/>
          <p:cNvSpPr/>
          <p:nvPr/>
        </p:nvSpPr>
        <p:spPr>
          <a:xfrm>
            <a:off x="2514600" y="5105520"/>
            <a:ext cx="18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6600" spc="-1" strike="noStrike">
                <a:solidFill>
                  <a:srgbClr val="00b0f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7" name="TextBox 35"/>
          <p:cNvSpPr/>
          <p:nvPr/>
        </p:nvSpPr>
        <p:spPr>
          <a:xfrm>
            <a:off x="4876920" y="5105520"/>
            <a:ext cx="18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6600" spc="-1" strike="noStrike">
                <a:solidFill>
                  <a:srgbClr val="00b0f0"/>
                </a:solidFill>
                <a:latin typeface="Arial"/>
              </a:rPr>
              <a:t>t</a:t>
            </a:r>
            <a:endParaRPr b="0" lang="en-US" sz="6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8" name="TextBox 36"/>
          <p:cNvSpPr/>
          <p:nvPr/>
        </p:nvSpPr>
        <p:spPr>
          <a:xfrm>
            <a:off x="609480" y="5105520"/>
            <a:ext cx="18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TT</a:t>
            </a:r>
            <a:endParaRPr b="0" lang="en-US" sz="6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9" name="TextBox 37"/>
          <p:cNvSpPr/>
          <p:nvPr/>
        </p:nvSpPr>
        <p:spPr>
          <a:xfrm>
            <a:off x="7162920" y="5105520"/>
            <a:ext cx="182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f0"/>
                </a:solidFill>
                <a:latin typeface="Arial"/>
              </a:rPr>
              <a:t>tt</a:t>
            </a:r>
            <a:endParaRPr b="0" lang="en-US" sz="6600" spc="-1" strike="noStrike">
              <a:solidFill>
                <a:srgbClr val="292934"/>
              </a:solidFill>
              <a:latin typeface="Arial"/>
            </a:endParaRPr>
          </a:p>
        </p:txBody>
      </p:sp>
      <p:cxnSp>
        <p:nvCxnSpPr>
          <p:cNvPr id="380" name="Straight Arrow Connector 38"/>
          <p:cNvCxnSpPr/>
          <p:nvPr/>
        </p:nvCxnSpPr>
        <p:spPr>
          <a:xfrm flipH="1">
            <a:off x="990360" y="3505320"/>
            <a:ext cx="457920" cy="1829520"/>
          </a:xfrm>
          <a:prstGeom prst="straightConnector1">
            <a:avLst/>
          </a:prstGeom>
          <a:ln w="57240">
            <a:solidFill>
              <a:srgbClr val="93a299"/>
            </a:solidFill>
            <a:miter/>
            <a:tailEnd len="med" type="triangle" w="med"/>
          </a:ln>
        </p:spPr>
      </p:cxnSp>
      <p:cxnSp>
        <p:nvCxnSpPr>
          <p:cNvPr id="381" name="Straight Arrow Connector 40"/>
          <p:cNvCxnSpPr/>
          <p:nvPr/>
        </p:nvCxnSpPr>
        <p:spPr>
          <a:xfrm flipH="1">
            <a:off x="1523520" y="3276360"/>
            <a:ext cx="3810960" cy="2057760"/>
          </a:xfrm>
          <a:prstGeom prst="straightConnector1">
            <a:avLst/>
          </a:prstGeom>
          <a:ln w="57240">
            <a:solidFill>
              <a:srgbClr val="93a299"/>
            </a:solidFill>
            <a:miter/>
            <a:tailEnd len="med" type="triangle" w="med"/>
          </a:ln>
        </p:spPr>
      </p:cxnSp>
      <p:cxnSp>
        <p:nvCxnSpPr>
          <p:cNvPr id="382" name="Straight Arrow Connector 45"/>
          <p:cNvCxnSpPr/>
          <p:nvPr/>
        </p:nvCxnSpPr>
        <p:spPr>
          <a:xfrm>
            <a:off x="1447560" y="3505320"/>
            <a:ext cx="1448280" cy="1829520"/>
          </a:xfrm>
          <a:prstGeom prst="straightConnector1">
            <a:avLst/>
          </a:prstGeom>
          <a:ln w="57240">
            <a:solidFill>
              <a:srgbClr val="93a299"/>
            </a:solidFill>
            <a:miter/>
            <a:tailEnd len="med" type="triangle" w="med"/>
          </a:ln>
        </p:spPr>
      </p:cxnSp>
      <p:cxnSp>
        <p:nvCxnSpPr>
          <p:cNvPr id="383" name="Straight Arrow Connector 49"/>
          <p:cNvCxnSpPr/>
          <p:nvPr/>
        </p:nvCxnSpPr>
        <p:spPr>
          <a:xfrm>
            <a:off x="3429000" y="3504960"/>
            <a:ext cx="2286720" cy="1981800"/>
          </a:xfrm>
          <a:prstGeom prst="straightConnector1">
            <a:avLst/>
          </a:prstGeom>
          <a:ln w="57240">
            <a:solidFill>
              <a:srgbClr val="93a299"/>
            </a:solidFill>
            <a:miter/>
            <a:tailEnd len="med" type="triangle" w="med"/>
          </a:ln>
        </p:spPr>
      </p:cxnSp>
      <p:cxnSp>
        <p:nvCxnSpPr>
          <p:cNvPr id="384" name="Straight Arrow Connector 51"/>
          <p:cNvCxnSpPr/>
          <p:nvPr/>
        </p:nvCxnSpPr>
        <p:spPr>
          <a:xfrm>
            <a:off x="3428640" y="3504960"/>
            <a:ext cx="3810600" cy="1981800"/>
          </a:xfrm>
          <a:prstGeom prst="straightConnector1">
            <a:avLst/>
          </a:prstGeom>
          <a:ln w="57240">
            <a:solidFill>
              <a:srgbClr val="93a299"/>
            </a:solidFill>
            <a:miter/>
            <a:tailEnd len="med" type="triangle" w="med"/>
          </a:ln>
        </p:spPr>
      </p:cxnSp>
      <p:cxnSp>
        <p:nvCxnSpPr>
          <p:cNvPr id="385" name="Straight Arrow Connector 56"/>
          <p:cNvCxnSpPr/>
          <p:nvPr/>
        </p:nvCxnSpPr>
        <p:spPr>
          <a:xfrm flipH="1">
            <a:off x="3504960" y="3276720"/>
            <a:ext cx="3505680" cy="2210400"/>
          </a:xfrm>
          <a:prstGeom prst="straightConnector1">
            <a:avLst/>
          </a:prstGeom>
          <a:ln w="57240">
            <a:solidFill>
              <a:srgbClr val="93a299"/>
            </a:solidFill>
            <a:miter/>
            <a:tailEnd len="med" type="triangle" w="med"/>
          </a:ln>
        </p:spPr>
      </p:cxnSp>
      <p:cxnSp>
        <p:nvCxnSpPr>
          <p:cNvPr id="386" name="Straight Arrow Connector 59"/>
          <p:cNvCxnSpPr/>
          <p:nvPr/>
        </p:nvCxnSpPr>
        <p:spPr>
          <a:xfrm>
            <a:off x="7086240" y="3276720"/>
            <a:ext cx="610200" cy="2210400"/>
          </a:xfrm>
          <a:prstGeom prst="straightConnector1">
            <a:avLst/>
          </a:prstGeom>
          <a:ln w="57240">
            <a:solidFill>
              <a:srgbClr val="93a299"/>
            </a:solidFill>
            <a:miter/>
            <a:tailEnd len="med" type="triangle" w="med"/>
          </a:ln>
        </p:spPr>
      </p:cxnSp>
      <p:cxnSp>
        <p:nvCxnSpPr>
          <p:cNvPr id="387" name="Straight Arrow Connector 61"/>
          <p:cNvCxnSpPr/>
          <p:nvPr/>
        </p:nvCxnSpPr>
        <p:spPr>
          <a:xfrm flipH="1">
            <a:off x="5104800" y="3276360"/>
            <a:ext cx="229320" cy="2057760"/>
          </a:xfrm>
          <a:prstGeom prst="straightConnector1">
            <a:avLst/>
          </a:prstGeom>
          <a:ln w="57240">
            <a:solidFill>
              <a:srgbClr val="93a299"/>
            </a:solidFill>
            <a:miter/>
            <a:tailEnd len="med" type="triangle" w="med"/>
          </a:ln>
        </p:spPr>
      </p:cxnSp>
      <p:sp>
        <p:nvSpPr>
          <p:cNvPr id="388" name="Oval 26"/>
          <p:cNvSpPr/>
          <p:nvPr/>
        </p:nvSpPr>
        <p:spPr>
          <a:xfrm>
            <a:off x="1143000" y="2514600"/>
            <a:ext cx="914400" cy="914400"/>
          </a:xfrm>
          <a:prstGeom prst="ellipse">
            <a:avLst/>
          </a:prstGeom>
          <a:solidFill>
            <a:srgbClr val="f2f2f2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389" name="Group 42"/>
          <p:cNvGrpSpPr/>
          <p:nvPr/>
        </p:nvGrpSpPr>
        <p:grpSpPr>
          <a:xfrm>
            <a:off x="6934320" y="2514600"/>
            <a:ext cx="1566720" cy="609480"/>
            <a:chOff x="6934320" y="2514600"/>
            <a:chExt cx="1566720" cy="609480"/>
          </a:xfrm>
        </p:grpSpPr>
        <p:sp>
          <p:nvSpPr>
            <p:cNvPr id="390" name="Oval 32"/>
            <p:cNvSpPr/>
            <p:nvPr/>
          </p:nvSpPr>
          <p:spPr>
            <a:xfrm>
              <a:off x="6934320" y="2514600"/>
              <a:ext cx="609480" cy="609480"/>
            </a:xfrm>
            <a:prstGeom prst="ellipse">
              <a:avLst/>
            </a:prstGeom>
            <a:solidFill>
              <a:srgbClr val="f2f2f2"/>
            </a:solidFill>
            <a:ln w="2628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b0f0"/>
                  </a:solidFill>
                  <a:latin typeface="Arial"/>
                </a:rPr>
                <a:t>t</a:t>
              </a:r>
              <a:endParaRPr b="0" lang="en-US" sz="36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91" name="Freeform 33"/>
            <p:cNvSpPr/>
            <p:nvPr/>
          </p:nvSpPr>
          <p:spPr>
            <a:xfrm>
              <a:off x="7551720" y="2711520"/>
              <a:ext cx="949320" cy="252360"/>
            </a:xfrm>
            <a:custGeom>
              <a:avLst/>
              <a:gdLst/>
              <a:ahLst/>
              <a:rect l="l" t="t" r="r" b="b"/>
              <a:pathLst>
                <a:path w="948266" h="251206">
                  <a:moveTo>
                    <a:pt x="0" y="64940"/>
                  </a:moveTo>
                  <a:cubicBezTo>
                    <a:pt x="16933" y="53651"/>
                    <a:pt x="31493" y="37509"/>
                    <a:pt x="50800" y="31073"/>
                  </a:cubicBezTo>
                  <a:cubicBezTo>
                    <a:pt x="144018" y="0"/>
                    <a:pt x="188936" y="18707"/>
                    <a:pt x="287866" y="31073"/>
                  </a:cubicBezTo>
                  <a:cubicBezTo>
                    <a:pt x="310444" y="64940"/>
                    <a:pt x="342729" y="94059"/>
                    <a:pt x="355600" y="132673"/>
                  </a:cubicBezTo>
                  <a:cubicBezTo>
                    <a:pt x="395110" y="251206"/>
                    <a:pt x="355599" y="222984"/>
                    <a:pt x="440266" y="251206"/>
                  </a:cubicBezTo>
                  <a:cubicBezTo>
                    <a:pt x="513644" y="245562"/>
                    <a:pt x="587706" y="245751"/>
                    <a:pt x="660400" y="234273"/>
                  </a:cubicBezTo>
                  <a:cubicBezTo>
                    <a:pt x="695662" y="228705"/>
                    <a:pt x="728133" y="211695"/>
                    <a:pt x="762000" y="200406"/>
                  </a:cubicBezTo>
                  <a:cubicBezTo>
                    <a:pt x="778933" y="194762"/>
                    <a:pt x="794951" y="183473"/>
                    <a:pt x="812800" y="183473"/>
                  </a:cubicBezTo>
                  <a:lnTo>
                    <a:pt x="948266" y="183473"/>
                  </a:lnTo>
                </a:path>
              </a:pathLst>
            </a:custGeom>
            <a:noFill/>
            <a:ln w="38160">
              <a:solidFill>
                <a:srgbClr val="93a2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92" name="Group 43"/>
          <p:cNvGrpSpPr/>
          <p:nvPr/>
        </p:nvGrpSpPr>
        <p:grpSpPr>
          <a:xfrm>
            <a:off x="5105520" y="2514600"/>
            <a:ext cx="1557360" cy="609480"/>
            <a:chOff x="5105520" y="2514600"/>
            <a:chExt cx="1557360" cy="609480"/>
          </a:xfrm>
        </p:grpSpPr>
        <p:sp>
          <p:nvSpPr>
            <p:cNvPr id="393" name="Oval 29"/>
            <p:cNvSpPr/>
            <p:nvPr/>
          </p:nvSpPr>
          <p:spPr>
            <a:xfrm>
              <a:off x="5105520" y="2514600"/>
              <a:ext cx="609480" cy="609480"/>
            </a:xfrm>
            <a:prstGeom prst="ellipse">
              <a:avLst/>
            </a:prstGeom>
            <a:solidFill>
              <a:srgbClr val="f2f2f2"/>
            </a:solidFill>
            <a:ln w="2628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36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94" name="Freeform 30"/>
            <p:cNvSpPr/>
            <p:nvPr/>
          </p:nvSpPr>
          <p:spPr>
            <a:xfrm>
              <a:off x="5715000" y="2666880"/>
              <a:ext cx="947880" cy="250920"/>
            </a:xfrm>
            <a:custGeom>
              <a:avLst/>
              <a:gdLst/>
              <a:ahLst/>
              <a:rect l="l" t="t" r="r" b="b"/>
              <a:pathLst>
                <a:path w="948266" h="251206">
                  <a:moveTo>
                    <a:pt x="0" y="64940"/>
                  </a:moveTo>
                  <a:cubicBezTo>
                    <a:pt x="16933" y="53651"/>
                    <a:pt x="31493" y="37509"/>
                    <a:pt x="50800" y="31073"/>
                  </a:cubicBezTo>
                  <a:cubicBezTo>
                    <a:pt x="144018" y="0"/>
                    <a:pt x="188936" y="18707"/>
                    <a:pt x="287866" y="31073"/>
                  </a:cubicBezTo>
                  <a:cubicBezTo>
                    <a:pt x="310444" y="64940"/>
                    <a:pt x="342729" y="94059"/>
                    <a:pt x="355600" y="132673"/>
                  </a:cubicBezTo>
                  <a:cubicBezTo>
                    <a:pt x="395110" y="251206"/>
                    <a:pt x="355599" y="222984"/>
                    <a:pt x="440266" y="251206"/>
                  </a:cubicBezTo>
                  <a:cubicBezTo>
                    <a:pt x="513644" y="245562"/>
                    <a:pt x="587706" y="245751"/>
                    <a:pt x="660400" y="234273"/>
                  </a:cubicBezTo>
                  <a:cubicBezTo>
                    <a:pt x="695662" y="228705"/>
                    <a:pt x="728133" y="211695"/>
                    <a:pt x="762000" y="200406"/>
                  </a:cubicBezTo>
                  <a:cubicBezTo>
                    <a:pt x="778933" y="194762"/>
                    <a:pt x="794951" y="183473"/>
                    <a:pt x="812800" y="183473"/>
                  </a:cubicBezTo>
                  <a:lnTo>
                    <a:pt x="948266" y="183473"/>
                  </a:lnTo>
                </a:path>
              </a:pathLst>
            </a:custGeom>
            <a:noFill/>
            <a:ln w="38160">
              <a:solidFill>
                <a:srgbClr val="93a2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395" name="Oval 27"/>
          <p:cNvSpPr/>
          <p:nvPr/>
        </p:nvSpPr>
        <p:spPr>
          <a:xfrm>
            <a:off x="2895480" y="2514600"/>
            <a:ext cx="914400" cy="914400"/>
          </a:xfrm>
          <a:prstGeom prst="ellipse">
            <a:avLst/>
          </a:prstGeom>
          <a:solidFill>
            <a:srgbClr val="f2f2f2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6" name="Oval 44"/>
          <p:cNvSpPr/>
          <p:nvPr/>
        </p:nvSpPr>
        <p:spPr>
          <a:xfrm>
            <a:off x="1143000" y="2514600"/>
            <a:ext cx="914400" cy="914400"/>
          </a:xfrm>
          <a:prstGeom prst="ellipse">
            <a:avLst/>
          </a:prstGeom>
          <a:solidFill>
            <a:srgbClr val="f2f2f2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7" name="Oval 46"/>
          <p:cNvSpPr/>
          <p:nvPr/>
        </p:nvSpPr>
        <p:spPr>
          <a:xfrm>
            <a:off x="2895480" y="2514600"/>
            <a:ext cx="914400" cy="914400"/>
          </a:xfrm>
          <a:prstGeom prst="ellipse">
            <a:avLst/>
          </a:prstGeom>
          <a:solidFill>
            <a:srgbClr val="f2f2f2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398" name="Group 25" descr=""/>
          <p:cNvPicPr/>
          <p:nvPr/>
        </p:nvPicPr>
        <p:blipFill>
          <a:blip r:embed="rId3"/>
          <a:stretch/>
        </p:blipFill>
        <p:spPr>
          <a:xfrm>
            <a:off x="6900840" y="2408400"/>
            <a:ext cx="1603440" cy="963360"/>
          </a:xfrm>
          <a:prstGeom prst="rect">
            <a:avLst/>
          </a:prstGeom>
          <a:ln w="0">
            <a:noFill/>
          </a:ln>
        </p:spPr>
      </p:pic>
      <p:pic>
        <p:nvPicPr>
          <p:cNvPr id="399" name="Group 24" descr=""/>
          <p:cNvPicPr/>
          <p:nvPr/>
        </p:nvPicPr>
        <p:blipFill>
          <a:blip r:embed="rId4"/>
          <a:stretch/>
        </p:blipFill>
        <p:spPr>
          <a:xfrm>
            <a:off x="4992840" y="2408400"/>
            <a:ext cx="1670040" cy="963360"/>
          </a:xfrm>
          <a:prstGeom prst="rect">
            <a:avLst/>
          </a:prstGeom>
          <a:ln w="0">
            <a:noFill/>
          </a:ln>
        </p:spPr>
      </p:pic>
      <p:sp>
        <p:nvSpPr>
          <p:cNvPr id="400" name="Oval 58"/>
          <p:cNvSpPr/>
          <p:nvPr/>
        </p:nvSpPr>
        <p:spPr>
          <a:xfrm>
            <a:off x="1143000" y="2514600"/>
            <a:ext cx="914400" cy="914400"/>
          </a:xfrm>
          <a:prstGeom prst="ellipse">
            <a:avLst/>
          </a:prstGeom>
          <a:solidFill>
            <a:srgbClr val="f2f2f2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401" name="Group 60"/>
          <p:cNvGrpSpPr/>
          <p:nvPr/>
        </p:nvGrpSpPr>
        <p:grpSpPr>
          <a:xfrm>
            <a:off x="6934320" y="2514600"/>
            <a:ext cx="1566720" cy="609480"/>
            <a:chOff x="6934320" y="2514600"/>
            <a:chExt cx="1566720" cy="609480"/>
          </a:xfrm>
        </p:grpSpPr>
        <p:sp>
          <p:nvSpPr>
            <p:cNvPr id="402" name="Oval 62"/>
            <p:cNvSpPr/>
            <p:nvPr/>
          </p:nvSpPr>
          <p:spPr>
            <a:xfrm>
              <a:off x="6934320" y="2514600"/>
              <a:ext cx="609480" cy="609480"/>
            </a:xfrm>
            <a:prstGeom prst="ellipse">
              <a:avLst/>
            </a:prstGeom>
            <a:solidFill>
              <a:srgbClr val="f2f2f2"/>
            </a:solidFill>
            <a:ln w="2628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b0f0"/>
                  </a:solidFill>
                  <a:latin typeface="Arial"/>
                </a:rPr>
                <a:t>t</a:t>
              </a:r>
              <a:endParaRPr b="0" lang="en-US" sz="36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03" name="Freeform 63"/>
            <p:cNvSpPr/>
            <p:nvPr/>
          </p:nvSpPr>
          <p:spPr>
            <a:xfrm>
              <a:off x="7551720" y="2711520"/>
              <a:ext cx="949320" cy="252360"/>
            </a:xfrm>
            <a:custGeom>
              <a:avLst/>
              <a:gdLst/>
              <a:ahLst/>
              <a:rect l="l" t="t" r="r" b="b"/>
              <a:pathLst>
                <a:path w="948266" h="251206">
                  <a:moveTo>
                    <a:pt x="0" y="64940"/>
                  </a:moveTo>
                  <a:cubicBezTo>
                    <a:pt x="16933" y="53651"/>
                    <a:pt x="31493" y="37509"/>
                    <a:pt x="50800" y="31073"/>
                  </a:cubicBezTo>
                  <a:cubicBezTo>
                    <a:pt x="144018" y="0"/>
                    <a:pt x="188936" y="18707"/>
                    <a:pt x="287866" y="31073"/>
                  </a:cubicBezTo>
                  <a:cubicBezTo>
                    <a:pt x="310444" y="64940"/>
                    <a:pt x="342729" y="94059"/>
                    <a:pt x="355600" y="132673"/>
                  </a:cubicBezTo>
                  <a:cubicBezTo>
                    <a:pt x="395110" y="251206"/>
                    <a:pt x="355599" y="222984"/>
                    <a:pt x="440266" y="251206"/>
                  </a:cubicBezTo>
                  <a:cubicBezTo>
                    <a:pt x="513644" y="245562"/>
                    <a:pt x="587706" y="245751"/>
                    <a:pt x="660400" y="234273"/>
                  </a:cubicBezTo>
                  <a:cubicBezTo>
                    <a:pt x="695662" y="228705"/>
                    <a:pt x="728133" y="211695"/>
                    <a:pt x="762000" y="200406"/>
                  </a:cubicBezTo>
                  <a:cubicBezTo>
                    <a:pt x="778933" y="194762"/>
                    <a:pt x="794951" y="183473"/>
                    <a:pt x="812800" y="183473"/>
                  </a:cubicBezTo>
                  <a:lnTo>
                    <a:pt x="948266" y="183473"/>
                  </a:lnTo>
                </a:path>
              </a:pathLst>
            </a:custGeom>
            <a:noFill/>
            <a:ln w="38160">
              <a:solidFill>
                <a:srgbClr val="93a2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04" name="Group 64"/>
          <p:cNvGrpSpPr/>
          <p:nvPr/>
        </p:nvGrpSpPr>
        <p:grpSpPr>
          <a:xfrm>
            <a:off x="5105520" y="2514600"/>
            <a:ext cx="1557360" cy="609480"/>
            <a:chOff x="5105520" y="2514600"/>
            <a:chExt cx="1557360" cy="609480"/>
          </a:xfrm>
        </p:grpSpPr>
        <p:sp>
          <p:nvSpPr>
            <p:cNvPr id="405" name="Oval 65"/>
            <p:cNvSpPr/>
            <p:nvPr/>
          </p:nvSpPr>
          <p:spPr>
            <a:xfrm>
              <a:off x="5105520" y="2514600"/>
              <a:ext cx="609480" cy="609480"/>
            </a:xfrm>
            <a:prstGeom prst="ellipse">
              <a:avLst/>
            </a:prstGeom>
            <a:solidFill>
              <a:srgbClr val="f2f2f2"/>
            </a:solidFill>
            <a:ln w="26280">
              <a:solidFill>
                <a:srgbClr val="6b76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36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06" name="Freeform 66"/>
            <p:cNvSpPr/>
            <p:nvPr/>
          </p:nvSpPr>
          <p:spPr>
            <a:xfrm>
              <a:off x="5715000" y="2666880"/>
              <a:ext cx="947880" cy="250920"/>
            </a:xfrm>
            <a:custGeom>
              <a:avLst/>
              <a:gdLst/>
              <a:ahLst/>
              <a:rect l="l" t="t" r="r" b="b"/>
              <a:pathLst>
                <a:path w="948266" h="251206">
                  <a:moveTo>
                    <a:pt x="0" y="64940"/>
                  </a:moveTo>
                  <a:cubicBezTo>
                    <a:pt x="16933" y="53651"/>
                    <a:pt x="31493" y="37509"/>
                    <a:pt x="50800" y="31073"/>
                  </a:cubicBezTo>
                  <a:cubicBezTo>
                    <a:pt x="144018" y="0"/>
                    <a:pt x="188936" y="18707"/>
                    <a:pt x="287866" y="31073"/>
                  </a:cubicBezTo>
                  <a:cubicBezTo>
                    <a:pt x="310444" y="64940"/>
                    <a:pt x="342729" y="94059"/>
                    <a:pt x="355600" y="132673"/>
                  </a:cubicBezTo>
                  <a:cubicBezTo>
                    <a:pt x="395110" y="251206"/>
                    <a:pt x="355599" y="222984"/>
                    <a:pt x="440266" y="251206"/>
                  </a:cubicBezTo>
                  <a:cubicBezTo>
                    <a:pt x="513644" y="245562"/>
                    <a:pt x="587706" y="245751"/>
                    <a:pt x="660400" y="234273"/>
                  </a:cubicBezTo>
                  <a:cubicBezTo>
                    <a:pt x="695662" y="228705"/>
                    <a:pt x="728133" y="211695"/>
                    <a:pt x="762000" y="200406"/>
                  </a:cubicBezTo>
                  <a:cubicBezTo>
                    <a:pt x="778933" y="194762"/>
                    <a:pt x="794951" y="183473"/>
                    <a:pt x="812800" y="183473"/>
                  </a:cubicBezTo>
                  <a:lnTo>
                    <a:pt x="948266" y="183473"/>
                  </a:lnTo>
                </a:path>
              </a:pathLst>
            </a:custGeom>
            <a:noFill/>
            <a:ln w="38160">
              <a:solidFill>
                <a:srgbClr val="93a2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407" name="Oval 67"/>
          <p:cNvSpPr/>
          <p:nvPr/>
        </p:nvSpPr>
        <p:spPr>
          <a:xfrm>
            <a:off x="2895480" y="2514600"/>
            <a:ext cx="914400" cy="914400"/>
          </a:xfrm>
          <a:prstGeom prst="ellipse">
            <a:avLst/>
          </a:prstGeom>
          <a:solidFill>
            <a:srgbClr val="f2f2f2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C -0.01562 0.01991 -0.01736 0.05278 -0.02413 0.07894 C -0.02639 0.09954 -0.02465 0.12107 -0.02969 0.14075 C -0.0375 0.17084 -0.02482 0.12362 -0.03524 0.15556 C -0.04184 0.1757 -0.03507 0.16551 -0.04271 0.17524 C -0.0467 0.19213 -0.04826 0.20973 -0.05555 0.22477 C -0.05833 0.23866 -0.05694 0.23264 -0.06111 0.24931 C -0.0618 0.25186 -0.06302 0.25672 -0.06302 0.25672 C -0.06441 0.26922 -0.06632 0.2794 -0.06857 0.29144 C -0.07118 0.33172 -0.07048 0.31112 -0.07048 0.35301 E">
                                      <p:cBhvr>
                                        <p:cTn id="257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evt="end">
                                        <p:tn val="256"/>
                                      </p:cond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64 0.01111 C -0.05434 0.01366 -0.05416 0.01667 -0.05555 0.01852 C -0.05694 0.02037 -0.05937 0.01991 -0.06111 0.02083 C -0.06736 0.02408 -0.07309 0.0287 -0.07951 0.03079 C -0.08194 0.03171 -0.08455 0.03241 -0.08698 0.03333 C -0.0908 0.03472 -0.09444 0.03658 -0.09809 0.0382 C -0.1 0.03912 -0.10364 0.04074 -0.10364 0.04097 C -0.10607 0.04329 -0.10833 0.04607 -0.11111 0.04815 C -0.11284 0.04931 -0.1151 0.04884 -0.11666 0.05046 C -0.11909 0.05301 -0.11979 0.05787 -0.12222 0.06042 C -0.12743 0.0662 -0.13333 0.07037 -0.13889 0.07523 C -0.14323 0.07917 -0.15399 0.08125 -0.1592 0.08519 C -0.16788 0.09144 -0.17396 0.09838 -0.18333 0.10232 C -0.19201 0.10995 -0.19826 0.11366 -0.20729 0.11968 C -0.21371 0.12384 -0.21892 0.12894 -0.22587 0.13195 C -0.23142 0.13935 -0.2408 0.14815 -0.24809 0.15185 C -0.25277 0.15417 -0.25798 0.15463 -0.26284 0.15671 C -0.27604 0.17361 -0.29861 0.18681 -0.31666 0.1912 C -0.32361 0.20093 -0.33472 0.20533 -0.34444 0.20857 C -0.35816 0.23426 -0.3658 0.23866 -0.38698 0.24815 C -0.39375 0.25116 -0.40052 0.25486 -0.40729 0.25787 C -0.4092 0.2588 -0.41284 0.26042 -0.41284 0.26065 C -0.4184 0.26759 -0.42673 0.27199 -0.43333 0.27778 C -0.44288 0.28634 -0.45156 0.29653 -0.46111 0.30486 C -0.4658 0.31435 -0.47309 0.31736 -0.47777 0.32708 C -0.48246 0.33681 -0.48715 0.3463 -0.49062 0.35671 C -0.49218 0.36158 -0.49166 0.36783 -0.49444 0.37153 C -0.50069 0.37986 -0.49826 0.37639 -0.50173 0.38148 E">
                                      <p:cBhvr>
                                        <p:cTn id="260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evt="end">
                                        <p:tn val="259"/>
                                      </p:cond>
                                    </p:stCondLst>
                                  </p:cTn>
                                  <p:tgtEl>
                                    <p:spTgt spid="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73 0.00764 0.00521 0.01342 0.0092 0.01967 C 0.01146 0.02315 0.01666 0.02963 0.01666 0.02963 C 0.02014 0.04421 0.01597 0.03078 0.02222 0.0419 C 0.03003 0.05578 0.03524 0.07824 0.04809 0.08402 C 0.0493 0.08889 0.04896 0.09514 0.05173 0.09884 C 0.05642 0.10486 0.06163 0.10555 0.06666 0.11111 C 0.07448 0.11967 0.07951 0.13217 0.08507 0.14328 C 0.08541 0.14398 0.09236 0.15717 0.09253 0.1581 C 0.09583 0.17152 0.09774 0.19004 0.10555 0.2 C 0.10607 0.20254 0.10625 0.20532 0.10729 0.2074 C 0.10937 0.21134 0.11475 0.21736 0.11475 0.21736 C 0.11684 0.22546 0.12187 0.23148 0.12396 0.23958 C 0.12743 0.25324 0.13281 0.26365 0.13698 0.27662 C 0.14357 0.29676 0.1368 0.28657 0.14444 0.29629 C 0.15087 0.32338 0.14809 0.33333 0.14809 0.37037 E">
                                      <p:cBhvr>
                                        <p:cTn id="274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75" dur="1" fill="hold">
                                    <p:stCondLst>
                                      <p:cond evt="end">
                                        <p:tn val="273"/>
                                      </p:cond>
                                    </p:stCondLst>
                                  </p:cTn>
                                  <p:tgtEl>
                                    <p:spTgt spid="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22 0.01111 C -0.08107 0.01898 -0.07552 0.01482 -0.08889 0.02083 C -0.09079 0.02176 -0.09444 0.02338 -0.09444 0.02361 C -0.10329 0.03519 -0.09861 0.03195 -0.10746 0.03565 C -0.11649 0.04815 -0.10503 0.0338 -0.11666 0.04306 C -0.12934 0.05301 -0.11059 0.04398 -0.12604 0.05046 C -0.12882 0.05417 -0.1302 0.05949 -0.13333 0.06296 C -0.13836 0.06852 -0.14635 0.07037 -0.15191 0.07523 C -0.16111 0.09375 -0.14948 0.07361 -0.16111 0.08519 C -0.16458 0.08866 -0.16736 0.09329 -0.17048 0.09745 C -0.17222 0.09977 -0.17534 0.09908 -0.17777 0.1 C -0.18142 0.10139 -0.18524 0.10324 -0.18889 0.10486 C -0.20017 0.10995 -0.20659 0.11343 -0.21666 0.12222 C -0.22413 0.12894 -0.2302 0.13704 -0.23715 0.14445 C -0.23889 0.1463 -0.24062 0.14815 -0.2427 0.14931 C -0.24635 0.15139 -0.25382 0.15417 -0.25382 0.1544 C -0.26319 0.16713 -0.25104 0.15185 -0.26302 0.16158 C -0.26736 0.16505 -0.27639 0.17708 -0.27968 0.18148 C -0.28246 0.18519 -0.29079 0.18634 -0.29079 0.18658 C -0.30954 0.20509 -0.32656 0.2257 -0.34635 0.24306 C -0.3493 0.2456 -0.35086 0.25046 -0.35382 0.25301 C -0.3592 0.25764 -0.36562 0.25949 -0.37048 0.26528 C -0.3776 0.27361 -0.37916 0.2794 -0.38715 0.28519 C -0.3934 0.28982 -0.40086 0.29375 -0.40746 0.29745 C -0.41423 0.30116 -0.41909 0.30695 -0.42604 0.30972 C -0.43611 0.31898 -0.44392 0.33171 -0.45555 0.33704 C -0.45677 0.33866 -0.45781 0.34074 -0.45937 0.3419 C -0.46111 0.34329 -0.46336 0.34283 -0.46493 0.34445 C -0.47639 0.35671 -0.46059 0.34861 -0.47413 0.35417 C -0.48437 0.36783 -0.48958 0.37153 -0.49826 0.38889 C -0.50225 0.39676 -0.50191 0.39329 -0.50191 0.39861 E">
                                      <p:cBhvr>
                                        <p:cTn id="277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evt="end">
                                        <p:tn val="276"/>
                                      </p:cond>
                                    </p:stCondLst>
                                  </p:cTn>
                                  <p:tgtEl>
                                    <p:spTgt spid="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7.77778E-006 C 0.0059 0.00834 0.00937 0.01575 0.01666 0.02223 C 0.01718 0.02477 0.01718 0.02755 0.0184 0.02964 C 0.01978 0.03195 0.02222 0.03288 0.02395 0.03473 C 0.02916 0.04028 0.03124 0.04676 0.03697 0.05186 C 0.0394 0.06135 0.04183 0.06366 0.04808 0.06922 C 0.05555 0.0845 0.0651 0.09792 0.07586 0.1088 C 0.07933 0.11227 0.08385 0.11436 0.08697 0.11852 C 0.09461 0.12871 0.09756 0.13195 0.10728 0.13843 C 0.11527 0.14376 0.11857 0.15255 0.12395 0.16065 C 0.1269 0.16505 0.13333 0.17292 0.13333 0.17292 C 0.13385 0.17547 0.13402 0.17825 0.13506 0.18033 C 0.13715 0.18426 0.14253 0.19028 0.14253 0.19028 C 0.14878 0.21459 0.15763 0.21389 0.16666 0.23218 C 0.17152 0.24214 0.1776 0.25278 0.18506 0.25926 C 0.18732 0.26366 0.19027 0.26737 0.19253 0.27176 C 0.19791 0.28288 0.19913 0.29214 0.20919 0.2963 C 0.21145 0.30487 0.21544 0.30811 0.2184 0.31621 C 0.21926 0.31852 0.21926 0.32153 0.22031 0.32362 C 0.22308 0.32917 0.22951 0.33843 0.23333 0.34329 C 0.23489 0.35001 0.23888 0.36019 0.23888 0.36806 E">
                                      <p:cBhvr>
                                        <p:cTn id="291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92" dur="1" fill="hold">
                                    <p:stCondLst>
                                      <p:cond evt="end">
                                        <p:tn val="290"/>
                                      </p:cond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07 0.02222 C -0.03402 0.03912 -0.03333 0.05648 -0.03264 0.07408 C -0.03246 0.08935 -0.03298 0.1287 -0.03107 0.14074 C -0.03038 0.15278 -0.02864 0.16343 -0.0283 0.17616 C -0.02795 0.18495 -0.02743 0.20232 -0.02743 0.20255 C -0.02725 0.22384 -0.02691 0.24491 -0.02621 0.2662 C -0.02604 0.29375 -0.02656 0.31875 -0.025 0.34445 C -0.02552 0.37292 -0.02552 0.36181 -0.02552 0.37778 E">
                                      <p:cBhvr>
                                        <p:cTn id="294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95" dur="1" fill="hold">
                                    <p:stCondLst>
                                      <p:cond evt="end">
                                        <p:tn val="293"/>
                                      </p:cond>
                                    </p:stCondLst>
                                  </p:cTn>
                                  <p:tgtEl>
                                    <p:spTgt spid="4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1 0.00254 0.00173 0.00578 0.00364 0.0074 C 0.00694 0.01018 0.01475 0.01227 0.01475 0.01227 C 0.02413 0.02083 0.03142 0.03194 0.04253 0.03703 C 0.04809 0.04444 0.05 0.05115 0.05729 0.0544 C 0.06545 0.06481 0.0802 0.07569 0.09062 0.08148 C 0.09739 0.08518 0.10225 0.09097 0.1092 0.09375 C 0.11823 0.10625 0.10677 0.0919 0.1184 0.10115 C 0.11996 0.10231 0.12066 0.10509 0.12222 0.10625 C 0.12621 0.10879 0.1309 0.10926 0.13507 0.11111 C 0.14392 0.12291 0.13923 0.11967 0.14809 0.12338 C 0.15729 0.1419 0.1717 0.14722 0.18507 0.1581 C 0.20034 0.17037 0.1908 0.16527 0.20173 0.17037 C 0.20833 0.1787 0.20416 0.17477 0.21666 0.18032 C 0.21857 0.18125 0.22031 0.18194 0.22222 0.18264 C 0.22413 0.18356 0.22777 0.18518 0.22777 0.18518 C 0.23142 0.20069 0.24479 0.20509 0.25555 0.20995 C 0.25972 0.2118 0.26302 0.21643 0.26666 0.21967 C 0.27777 0.2294 0.29444 0.22731 0.30555 0.23703 C 0.3118 0.24259 0.31892 0.2456 0.32586 0.2493 C 0.32951 0.25115 0.33333 0.25277 0.33698 0.2544 C 0.33889 0.25532 0.34253 0.25671 0.34253 0.25671 C 0.34809 0.26458 0.35538 0.26574 0.36284 0.26921 C 0.37187 0.27338 0.37465 0.28264 0.38333 0.28634 C 0.3927 0.2993 0.38055 0.28402 0.39253 0.29375 C 0.39409 0.2949 0.39461 0.29768 0.39618 0.29884 C 0.39965 0.30115 0.40729 0.3037 0.40729 0.3037 C 0.41336 0.31157 0.43055 0.32222 0.43889 0.32592 C 0.44809 0.34467 0.44809 0.36597 0.44809 0.38773 E">
                                      <p:cBhvr>
                                        <p:cTn id="308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evt="end">
                                        <p:tn val="307"/>
                                      </p:cond>
                                    </p:stCondLst>
                                  </p:cTn>
                                  <p:tgtEl>
                                    <p:spTgt spid="4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18 0.01111 C -0.04027 0.04838 -0.04392 0.08912 -0.03472 0.12477 C -0.03229 0.14838 -0.03454 0.13565 -0.02916 0.15695 C -0.02847 0.15949 -0.02743 0.16435 -0.02743 0.16458 C -0.02639 0.23218 -0.02708 0.29005 -0.01996 0.3544 C -0.02204 0.39144 -0.02187 0.37732 -0.02187 0.3963 E">
                                      <p:cBhvr>
                                        <p:cTn id="311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evt="end">
                                        <p:tn val="310"/>
                                      </p:cond>
                                    </p:stCondLst>
                                  </p:cTn>
                                  <p:tgtEl>
                                    <p:spTgt spid="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Genotyp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8086680" y="6477120"/>
            <a:ext cx="10666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2D7E-1157-4978-B3C4-9434EF029C84}" type="slidenum">
              <a:rPr b="1" lang="en-US" sz="4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523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83880" indent="-8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set of alleles that you have for a particular trait is called the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genotyp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83880" indent="-8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83880" indent="-83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T</a:t>
            </a:r>
            <a:r>
              <a:rPr b="0" lang="en-US" sz="4400" spc="-1" strike="noStrike">
                <a:solidFill>
                  <a:srgbClr val="292934"/>
                </a:solidFill>
                <a:latin typeface="Arial"/>
              </a:rPr>
              <a:t> is a genotype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  <a:p>
            <a:pPr marL="83880" indent="-83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292934"/>
                </a:solidFill>
                <a:latin typeface="Arial"/>
              </a:rPr>
              <a:t> is a genotype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  <a:p>
            <a:pPr marL="83880" indent="-83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"/>
              </a:rPr>
              <a:t>tt </a:t>
            </a:r>
            <a:r>
              <a:rPr b="0" lang="en-US" sz="4400" spc="-1" strike="noStrike">
                <a:solidFill>
                  <a:srgbClr val="292934"/>
                </a:solidFill>
                <a:latin typeface="Arial"/>
              </a:rPr>
              <a:t>is a genotype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Phenotyp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8086680" y="6477120"/>
            <a:ext cx="10666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8D1D-5A53-4D49-93DC-72A4E3647D7F}" type="slidenum">
              <a:rPr b="1" lang="en-US" sz="4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371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78480" indent="-78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traits that you see are called your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phenotyp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78480" indent="-78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78480" indent="-78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Being able to roll your tongue is a phenotyp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78480" indent="-78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Not being able to roll your tongue is a phenotyp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78480" indent="-78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aving dimples is a phenotyp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78480" indent="-78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Not having dimples is a phenotyp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78480" indent="-78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Having freckles is a phenotyp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78480" indent="-78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Not having freckles is a phenotyp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14" name="Picture 13" descr="http://askabiologist.asu.edu/sites/default/files/resources/articles/mendel/dimples.jpg "/>
          <p:cNvPicPr/>
          <p:nvPr/>
        </p:nvPicPr>
        <p:blipFill>
          <a:blip r:embed="rId1"/>
          <a:stretch/>
        </p:blipFill>
        <p:spPr>
          <a:xfrm>
            <a:off x="1523880" y="4398840"/>
            <a:ext cx="2840040" cy="16210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5" descr="http://askabiologist.asu.edu/sites/default/files/resources/articles/mendel/no_dimples.jpg"/>
          <p:cNvPicPr/>
          <p:nvPr/>
        </p:nvPicPr>
        <p:blipFill>
          <a:blip r:embed="rId2"/>
          <a:stretch/>
        </p:blipFill>
        <p:spPr>
          <a:xfrm>
            <a:off x="4724280" y="4398840"/>
            <a:ext cx="2838600" cy="16210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"/>
          <p:cNvPicPr/>
          <p:nvPr/>
        </p:nvPicPr>
        <p:blipFill>
          <a:blip r:embed="rId3"/>
          <a:stretch/>
        </p:blipFill>
        <p:spPr>
          <a:xfrm>
            <a:off x="2666880" y="3657600"/>
            <a:ext cx="3962520" cy="2604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http://askabiologist.asu.edu/sites/default/files/resources/articles/mendel/freckles_child.jpg "/>
          <p:cNvPicPr/>
          <p:nvPr/>
        </p:nvPicPr>
        <p:blipFill>
          <a:blip r:embed="rId4"/>
          <a:stretch/>
        </p:blipFill>
        <p:spPr>
          <a:xfrm>
            <a:off x="2209680" y="49528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" descr=""/>
          <p:cNvPicPr/>
          <p:nvPr/>
        </p:nvPicPr>
        <p:blipFill>
          <a:blip r:embed="rId5"/>
          <a:stretch/>
        </p:blipFill>
        <p:spPr>
          <a:xfrm>
            <a:off x="4572000" y="4971960"/>
            <a:ext cx="2057400" cy="154332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2"/>
          <p:cNvSpPr/>
          <p:nvPr/>
        </p:nvSpPr>
        <p:spPr>
          <a:xfrm>
            <a:off x="1413000" y="601992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92934"/>
                </a:solidFill>
                <a:latin typeface="Arial"/>
              </a:rPr>
              <a:t>http://upload.wikimedia.org/wikipedia/commons/2/2e/Asian_girl_with_dimples.jpg</a:t>
            </a:r>
            <a:endParaRPr b="0" lang="en-US" sz="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Phenotype vs Genotyp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8086680" y="6477120"/>
            <a:ext cx="10666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93B4-8C8F-405F-9D41-EE55B7A1564C}" type="slidenum">
              <a:rPr b="1" lang="en-US" sz="4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2" name="Title 1"/>
          <p:cNvSpPr/>
          <p:nvPr/>
        </p:nvSpPr>
        <p:spPr>
          <a:xfrm>
            <a:off x="457200" y="5486400"/>
            <a:ext cx="281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Genotype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3" name="TextBox 7"/>
          <p:cNvSpPr/>
          <p:nvPr/>
        </p:nvSpPr>
        <p:spPr>
          <a:xfrm>
            <a:off x="5130720" y="57690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Phenotype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4" name="TextBox 9"/>
          <p:cNvSpPr/>
          <p:nvPr/>
        </p:nvSpPr>
        <p:spPr>
          <a:xfrm>
            <a:off x="173880" y="1447920"/>
            <a:ext cx="8945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34"/>
                </a:solidFill>
                <a:latin typeface="Arial"/>
              </a:rPr>
              <a:t>Do the pictures on the right represent the </a:t>
            </a:r>
            <a:r>
              <a:rPr b="1" lang="en-US" sz="2300" spc="-1" strike="noStrike">
                <a:solidFill>
                  <a:srgbClr val="292934"/>
                </a:solidFill>
                <a:latin typeface="Arial"/>
              </a:rPr>
              <a:t>genotype</a:t>
            </a:r>
            <a:r>
              <a:rPr b="0" lang="en-US" sz="2300" spc="-1" strike="noStrike">
                <a:solidFill>
                  <a:srgbClr val="292934"/>
                </a:solidFill>
                <a:latin typeface="Arial"/>
              </a:rPr>
              <a:t> or </a:t>
            </a:r>
            <a:r>
              <a:rPr b="1" lang="en-US" sz="2300" spc="-1" strike="noStrike">
                <a:solidFill>
                  <a:srgbClr val="292934"/>
                </a:solidFill>
                <a:latin typeface="Arial"/>
              </a:rPr>
              <a:t>phenotype</a:t>
            </a:r>
            <a:r>
              <a:rPr b="0" lang="en-US" sz="2300" spc="-1" strike="noStrike">
                <a:solidFill>
                  <a:srgbClr val="292934"/>
                </a:solidFill>
                <a:latin typeface="Arial"/>
              </a:rPr>
              <a:t>?</a:t>
            </a:r>
            <a:endParaRPr b="0" lang="en-US" sz="23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5" name="TextBox 10"/>
          <p:cNvSpPr/>
          <p:nvPr/>
        </p:nvSpPr>
        <p:spPr>
          <a:xfrm>
            <a:off x="1219320" y="23814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DD</a:t>
            </a:r>
            <a:endParaRPr b="0" lang="en-US" sz="7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6" name="TextBox 11"/>
          <p:cNvSpPr/>
          <p:nvPr/>
        </p:nvSpPr>
        <p:spPr>
          <a:xfrm>
            <a:off x="1219320" y="337176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7200" spc="-1" strike="noStrike">
                <a:solidFill>
                  <a:srgbClr val="00b0f0"/>
                </a:solidFill>
                <a:latin typeface="Arial"/>
              </a:rPr>
              <a:t>d</a:t>
            </a:r>
            <a:endParaRPr b="0" lang="en-US" sz="7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7" name="TextBox 5"/>
          <p:cNvSpPr/>
          <p:nvPr/>
        </p:nvSpPr>
        <p:spPr>
          <a:xfrm>
            <a:off x="1219320" y="4343400"/>
            <a:ext cx="119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f0"/>
                </a:solidFill>
                <a:latin typeface="Arial"/>
              </a:rPr>
              <a:t>dd</a:t>
            </a:r>
            <a:endParaRPr b="0" lang="en-US" sz="7200" spc="-1" strike="noStrike">
              <a:solidFill>
                <a:srgbClr val="292934"/>
              </a:solidFill>
              <a:latin typeface="Arial"/>
            </a:endParaRPr>
          </a:p>
        </p:txBody>
      </p:sp>
      <p:cxnSp>
        <p:nvCxnSpPr>
          <p:cNvPr id="428" name="Straight Arrow Connector 14"/>
          <p:cNvCxnSpPr/>
          <p:nvPr/>
        </p:nvCxnSpPr>
        <p:spPr>
          <a:xfrm>
            <a:off x="3200040" y="2971440"/>
            <a:ext cx="1894680" cy="1080"/>
          </a:xfrm>
          <a:prstGeom prst="straightConnector1">
            <a:avLst/>
          </a:prstGeom>
          <a:ln w="50760">
            <a:solidFill>
              <a:srgbClr val="93a299"/>
            </a:solidFill>
            <a:miter/>
            <a:tailEnd len="med" type="arrow" w="med"/>
          </a:ln>
        </p:spPr>
      </p:cxnSp>
      <p:cxnSp>
        <p:nvCxnSpPr>
          <p:cNvPr id="429" name="Straight Arrow Connector 15"/>
          <p:cNvCxnSpPr/>
          <p:nvPr/>
        </p:nvCxnSpPr>
        <p:spPr>
          <a:xfrm>
            <a:off x="3200040" y="4065120"/>
            <a:ext cx="1894680" cy="1080"/>
          </a:xfrm>
          <a:prstGeom prst="straightConnector1">
            <a:avLst/>
          </a:prstGeom>
          <a:ln w="50760">
            <a:solidFill>
              <a:srgbClr val="93a299"/>
            </a:solidFill>
            <a:miter/>
            <a:tailEnd len="med" type="arrow" w="med"/>
          </a:ln>
        </p:spPr>
      </p:cxnSp>
      <p:cxnSp>
        <p:nvCxnSpPr>
          <p:cNvPr id="430" name="Straight Arrow Connector 16"/>
          <p:cNvCxnSpPr/>
          <p:nvPr/>
        </p:nvCxnSpPr>
        <p:spPr>
          <a:xfrm>
            <a:off x="3158640" y="5105160"/>
            <a:ext cx="1894680" cy="1080"/>
          </a:xfrm>
          <a:prstGeom prst="straightConnector1">
            <a:avLst/>
          </a:prstGeom>
          <a:ln w="50760">
            <a:solidFill>
              <a:srgbClr val="93a299"/>
            </a:solidFill>
            <a:miter/>
            <a:tailEnd len="med" type="arrow" w="med"/>
          </a:ln>
        </p:spPr>
      </p:cxnSp>
      <p:pic>
        <p:nvPicPr>
          <p:cNvPr id="431" name="Picture 13" descr="http://askabiologist.asu.edu/sites/default/files/resources/articles/mendel/dimples.jpg "/>
          <p:cNvPicPr/>
          <p:nvPr/>
        </p:nvPicPr>
        <p:blipFill>
          <a:blip r:embed="rId1"/>
          <a:stretch/>
        </p:blipFill>
        <p:spPr>
          <a:xfrm>
            <a:off x="5638680" y="2189160"/>
            <a:ext cx="1905120" cy="10875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4" descr=""/>
          <p:cNvPicPr/>
          <p:nvPr/>
        </p:nvPicPr>
        <p:blipFill>
          <a:blip r:embed="rId2"/>
          <a:stretch/>
        </p:blipFill>
        <p:spPr>
          <a:xfrm>
            <a:off x="5638680" y="3408480"/>
            <a:ext cx="1905120" cy="10872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5" descr="http://askabiologist.asu.edu/sites/default/files/resources/articles/mendel/no_dimples.jpg"/>
          <p:cNvPicPr/>
          <p:nvPr/>
        </p:nvPicPr>
        <p:blipFill>
          <a:blip r:embed="rId3"/>
          <a:stretch/>
        </p:blipFill>
        <p:spPr>
          <a:xfrm>
            <a:off x="5638680" y="4648320"/>
            <a:ext cx="1905120" cy="108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Dominant vs Recessive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8086680" y="6477120"/>
            <a:ext cx="10666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5B1B-A09D-4EB9-BC03-5FE999E063FB}" type="slidenum">
              <a:rPr b="1" lang="en-US" sz="4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45720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hich phenotype is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and which is the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Recessive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7" name="TextBox 10"/>
          <p:cNvSpPr/>
          <p:nvPr/>
        </p:nvSpPr>
        <p:spPr>
          <a:xfrm>
            <a:off x="1219320" y="23814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DD</a:t>
            </a:r>
            <a:endParaRPr b="0" lang="en-US" sz="7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8" name="TextBox 11"/>
          <p:cNvSpPr/>
          <p:nvPr/>
        </p:nvSpPr>
        <p:spPr>
          <a:xfrm>
            <a:off x="1219320" y="337176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7200" spc="-1" strike="noStrike">
                <a:solidFill>
                  <a:srgbClr val="00b0f0"/>
                </a:solidFill>
                <a:latin typeface="Arial"/>
              </a:rPr>
              <a:t>d</a:t>
            </a:r>
            <a:endParaRPr b="0" lang="en-US" sz="7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39" name="TextBox 5"/>
          <p:cNvSpPr/>
          <p:nvPr/>
        </p:nvSpPr>
        <p:spPr>
          <a:xfrm>
            <a:off x="1219320" y="4343400"/>
            <a:ext cx="119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f0"/>
                </a:solidFill>
                <a:latin typeface="Arial"/>
              </a:rPr>
              <a:t>dd</a:t>
            </a:r>
            <a:endParaRPr b="0" lang="en-US" sz="7200" spc="-1" strike="noStrike">
              <a:solidFill>
                <a:srgbClr val="292934"/>
              </a:solidFill>
              <a:latin typeface="Arial"/>
            </a:endParaRPr>
          </a:p>
        </p:txBody>
      </p:sp>
      <p:cxnSp>
        <p:nvCxnSpPr>
          <p:cNvPr id="440" name="Straight Arrow Connector 14"/>
          <p:cNvCxnSpPr/>
          <p:nvPr/>
        </p:nvCxnSpPr>
        <p:spPr>
          <a:xfrm>
            <a:off x="3200040" y="2971440"/>
            <a:ext cx="1894680" cy="1080"/>
          </a:xfrm>
          <a:prstGeom prst="straightConnector1">
            <a:avLst/>
          </a:prstGeom>
          <a:ln w="50760">
            <a:solidFill>
              <a:srgbClr val="93a299"/>
            </a:solidFill>
            <a:miter/>
            <a:tailEnd len="med" type="arrow" w="med"/>
          </a:ln>
        </p:spPr>
      </p:cxnSp>
      <p:cxnSp>
        <p:nvCxnSpPr>
          <p:cNvPr id="441" name="Straight Arrow Connector 15"/>
          <p:cNvCxnSpPr/>
          <p:nvPr/>
        </p:nvCxnSpPr>
        <p:spPr>
          <a:xfrm>
            <a:off x="3200040" y="4065120"/>
            <a:ext cx="1894680" cy="1080"/>
          </a:xfrm>
          <a:prstGeom prst="straightConnector1">
            <a:avLst/>
          </a:prstGeom>
          <a:ln w="50760">
            <a:solidFill>
              <a:srgbClr val="93a299"/>
            </a:solidFill>
            <a:miter/>
            <a:tailEnd len="med" type="arrow" w="med"/>
          </a:ln>
        </p:spPr>
      </p:cxnSp>
      <p:cxnSp>
        <p:nvCxnSpPr>
          <p:cNvPr id="442" name="Straight Arrow Connector 16"/>
          <p:cNvCxnSpPr/>
          <p:nvPr/>
        </p:nvCxnSpPr>
        <p:spPr>
          <a:xfrm>
            <a:off x="3158640" y="5105160"/>
            <a:ext cx="1894680" cy="1080"/>
          </a:xfrm>
          <a:prstGeom prst="straightConnector1">
            <a:avLst/>
          </a:prstGeom>
          <a:ln w="50760">
            <a:solidFill>
              <a:srgbClr val="93a299"/>
            </a:solidFill>
            <a:miter/>
            <a:tailEnd len="med" type="arrow" w="med"/>
          </a:ln>
        </p:spPr>
      </p:cxnSp>
      <p:pic>
        <p:nvPicPr>
          <p:cNvPr id="443" name="Picture 13" descr="http://askabiologist.asu.edu/sites/default/files/resources/articles/mendel/dimples.jpg "/>
          <p:cNvPicPr/>
          <p:nvPr/>
        </p:nvPicPr>
        <p:blipFill>
          <a:blip r:embed="rId1"/>
          <a:stretch/>
        </p:blipFill>
        <p:spPr>
          <a:xfrm>
            <a:off x="5638680" y="2320920"/>
            <a:ext cx="1905120" cy="10875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4" descr=""/>
          <p:cNvPicPr/>
          <p:nvPr/>
        </p:nvPicPr>
        <p:blipFill>
          <a:blip r:embed="rId2"/>
          <a:stretch/>
        </p:blipFill>
        <p:spPr>
          <a:xfrm>
            <a:off x="5638680" y="3540240"/>
            <a:ext cx="1905120" cy="10872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5" descr="http://askabiologist.asu.edu/sites/default/files/resources/articles/mendel/no_dimples.jpg"/>
          <p:cNvPicPr/>
          <p:nvPr/>
        </p:nvPicPr>
        <p:blipFill>
          <a:blip r:embed="rId3"/>
          <a:stretch/>
        </p:blipFill>
        <p:spPr>
          <a:xfrm>
            <a:off x="5638680" y="4780080"/>
            <a:ext cx="1905120" cy="1087200"/>
          </a:xfrm>
          <a:prstGeom prst="rect">
            <a:avLst/>
          </a:prstGeom>
          <a:ln w="0">
            <a:noFill/>
          </a:ln>
        </p:spPr>
      </p:pic>
      <p:sp>
        <p:nvSpPr>
          <p:cNvPr id="446" name="TextBox 12"/>
          <p:cNvSpPr/>
          <p:nvPr/>
        </p:nvSpPr>
        <p:spPr>
          <a:xfrm>
            <a:off x="3905280" y="144792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minant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7" name="TextBox 13"/>
          <p:cNvSpPr/>
          <p:nvPr/>
        </p:nvSpPr>
        <p:spPr>
          <a:xfrm>
            <a:off x="3308400" y="1930320"/>
            <a:ext cx="21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Recessive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8" name="TextBox 17"/>
          <p:cNvSpPr/>
          <p:nvPr/>
        </p:nvSpPr>
        <p:spPr>
          <a:xfrm>
            <a:off x="3895920" y="147312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minant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7037E-006 C 0.00642 0.00047 0.01302 0.00093 0.01944 0.00186 C 0.02396 0.00255 0.02639 0.0044 0.03073 0.00602 C 0.04323 0.01042 0.05573 0.01528 0.06823 0.02014 C 0.06997 0.0213 0.07135 0.02315 0.07309 0.02431 C 0.07465 0.02524 0.07674 0.02477 0.07812 0.02616 C 0.07951 0.02778 0.07986 0.03056 0.08125 0.03218 C 0.08663 0.03912 0.09444 0.04537 0.10087 0.05047 C 0.11719 0.06389 0.09965 0.05556 0.11233 0.06088 C 0.12483 0.07662 0.1191 0.07107 0.12847 0.07917 C 0.13003 0.08519 0.13247 0.0919 0.13507 0.09746 C 0.13698 0.10162 0.14149 0.10949 0.14149 0.10973 C 0.1434 0.1169 0.14722 0.11875 0.14965 0.1257 C 0.15104 0.12963 0.15174 0.1338 0.15278 0.13797 C 0.15382 0.14144 0.15729 0.14352 0.15937 0.14607 C 0.16076 0.14769 0.16111 0.1507 0.16267 0.15209 C 0.16406 0.15348 0.1658 0.15348 0.16753 0.15417 C 0.17344 0.16158 0.17483 0.17269 0.17726 0.18264 C 0.17882 0.18866 0.18559 0.18519 0.18559 0.19074 E">
                                      <p:cBhvr>
                                        <p:cTn id="417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59259E-006 C 0.00677 0.00092 0.01371 0.00162 0.02048 0.00347 C 0.02517 0.00509 0.02778 0.00856 0.03229 0.01157 C 0.04548 0.0199 0.05868 0.0294 0.0717 0.03842 C 0.07344 0.04097 0.075 0.04421 0.07691 0.04653 C 0.07847 0.04838 0.08055 0.04768 0.08194 0.05023 C 0.08368 0.05301 0.08385 0.05856 0.08541 0.0618 C 0.09097 0.075 0.09913 0.0868 0.1059 0.09676 C 0.12309 0.12222 0.10469 0.10625 0.11788 0.11643 C 0.13125 0.14653 0.12517 0.13611 0.13489 0.15139 C 0.13663 0.16296 0.13923 0.17569 0.14184 0.18634 C 0.14392 0.19421 0.14878 0.20949 0.14878 0.20995 C 0.15069 0.22384 0.15469 0.22754 0.15712 0.24051 C 0.15868 0.24815 0.15937 0.25625 0.16059 0.26389 C 0.16146 0.27083 0.16528 0.2743 0.16753 0.2794 C 0.16892 0.28287 0.16927 0.28819 0.17083 0.2912 C 0.17222 0.29375 0.17413 0.29375 0.17604 0.2949 C 0.18229 0.30903 0.18368 0.33055 0.18628 0.3493 C 0.18785 0.36111 0.19496 0.35416 0.19496 0.36481 E">
                                      <p:cBhvr>
                                        <p:cTn id="419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0.00996 C -0.01389 0.01112 -0.00486 0.00926 0.00208 0.01482 C 0.0066 0.01852 0.01128 0.02223 0.0151 0.02732 C 0.01753 0.03056 0.01979 0.03426 0.02257 0.03704 C 0.02639 0.04074 0.03125 0.04167 0.03542 0.04445 C 0.04028 0.05394 0.04236 0.05672 0.05035 0.06181 C 0.06493 0.08125 0.04739 0.0588 0.06146 0.07408 C 0.06771 0.08102 0.06562 0.08519 0.0743 0.08889 C 0.07917 0.09537 0.0816 0.10116 0.08732 0.10625 C 0.09253 0.12686 0.10347 0.13195 0.11701 0.14074 C 0.12239 0.14815 0.12604 0.1507 0.13368 0.15324 C 0.13871 0.15764 0.14097 0.1588 0.14479 0.16551 C 0.14757 0.17014 0.14896 0.17616 0.15208 0.18033 C 0.15451 0.18357 0.15955 0.19028 0.15955 0.19051 C 0.16337 0.2051 0.15833 0.19098 0.16875 0.20255 C 0.17048 0.2044 0.17101 0.20787 0.17257 0.20996 C 0.17778 0.21667 0.1816 0.21852 0.18542 0.22732 C 0.18976 0.2375 0.19201 0.24838 0.19479 0.25926 C 0.19548 0.26204 0.19757 0.26389 0.19844 0.26667 C 0.20312 0.28102 0.20087 0.28727 0.20955 0.29885 C 0.21476 0.31899 0.20694 0.29514 0.21701 0.3088 C 0.23767 0.33681 0.21458 0.31505 0.22986 0.32848 C 0.23055 0.33102 0.23073 0.33357 0.23177 0.33588 C 0.23403 0.34098 0.23923 0.3507 0.23923 0.35093 C 0.2441 0.37153 0.23715 0.3463 0.24479 0.36297 C 0.24809 0.37014 0.24878 0.38056 0.25208 0.38774 C 0.25295 0.38982 0.25486 0.39074 0.2559 0.3926 C 0.26232 0.40324 0.25729 0.3963 0.26146 0.40741 C 0.26476 0.41644 0.27257 0.41945 0.27257 0.42963 E">
                                      <p:cBhvr>
                                        <p:cTn id="421" dur="2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Homework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8086680" y="6477120"/>
            <a:ext cx="10666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93C0-7815-479F-AF9F-CC5138EE2695}" type="slidenum">
              <a:rPr b="1" lang="en-US" sz="4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51" name="Picture 2" descr="C:\Users\Ron\Dropbox\ISS2 D-GENETICS\Lesson 4 - Terminology and Labs\ISS2 Genetics Lesson 4 - Genetics Terms Homework SE_Page_1.png"/>
          <p:cNvPicPr/>
          <p:nvPr/>
        </p:nvPicPr>
        <p:blipFill>
          <a:blip r:embed="rId1"/>
          <a:srcRect l="8536" t="7975" r="8508" b="7834"/>
          <a:stretch/>
        </p:blipFill>
        <p:spPr>
          <a:xfrm>
            <a:off x="2362320" y="1219320"/>
            <a:ext cx="426708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Why do you look the way you do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447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raits from parents are </a:t>
            </a:r>
            <a:r>
              <a:rPr b="0" lang="ja-JP" sz="2400" spc="-1" strike="noStrike">
                <a:solidFill>
                  <a:srgbClr val="292934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passed on</a:t>
            </a:r>
            <a:r>
              <a:rPr b="0" lang="ja-JP" sz="2400" spc="-1" strike="noStrike">
                <a:solidFill>
                  <a:srgbClr val="292934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to their children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ome examples of traits ar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Attached or Unattached earlob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34"/>
                </a:solidFill>
                <a:latin typeface="Arial"/>
              </a:rPr>
              <a:t>Whether or not you can roll your tongu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533520" y="3429000"/>
            <a:ext cx="3962160" cy="2974320"/>
            <a:chOff x="533520" y="3429000"/>
            <a:chExt cx="3962160" cy="2974320"/>
          </a:xfrm>
        </p:grpSpPr>
        <p:pic>
          <p:nvPicPr>
            <p:cNvPr id="275" name="Picture 4" descr=""/>
            <p:cNvPicPr/>
            <p:nvPr/>
          </p:nvPicPr>
          <p:blipFill>
            <a:blip r:embed="rId1"/>
            <a:stretch/>
          </p:blipFill>
          <p:spPr>
            <a:xfrm>
              <a:off x="533520" y="3429000"/>
              <a:ext cx="3962160" cy="25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Box 2"/>
            <p:cNvSpPr/>
            <p:nvPr/>
          </p:nvSpPr>
          <p:spPr>
            <a:xfrm>
              <a:off x="1718640" y="6096240"/>
              <a:ext cx="161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92934"/>
                  </a:solidFill>
                  <a:latin typeface="Arial"/>
                </a:rPr>
                <a:t>Earlobes</a:t>
              </a:r>
              <a:endParaRPr b="0" lang="en-US" sz="1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pic>
        <p:nvPicPr>
          <p:cNvPr id="277" name="Picture 5" descr=""/>
          <p:cNvPicPr/>
          <p:nvPr/>
        </p:nvPicPr>
        <p:blipFill>
          <a:blip r:embed="rId2"/>
          <a:stretch/>
        </p:blipFill>
        <p:spPr>
          <a:xfrm>
            <a:off x="4724280" y="3429000"/>
            <a:ext cx="3962520" cy="26049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4"/>
          <p:cNvSpPr/>
          <p:nvPr/>
        </p:nvSpPr>
        <p:spPr>
          <a:xfrm>
            <a:off x="5761080" y="6067440"/>
            <a:ext cx="216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34"/>
                </a:solidFill>
                <a:latin typeface="Arial"/>
              </a:rPr>
              <a:t>Tongue Rolling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9" name="Slide Number Placeholder 1"/>
          <p:cNvSpPr/>
          <p:nvPr/>
        </p:nvSpPr>
        <p:spPr>
          <a:xfrm>
            <a:off x="8086680" y="6477120"/>
            <a:ext cx="10666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AEEF-8807-48A1-B61E-53ABA94A08A3}" type="slidenum">
              <a:rPr b="1" lang="en-US" sz="4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6781680" y="3200400"/>
            <a:ext cx="221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292934"/>
                </a:solidFill>
                <a:latin typeface="Arial"/>
              </a:rPr>
              <a:t>http://www.emmawatsonitalia.com/wp-content/uploads/2008/10/emma_tongue.jpg</a:t>
            </a:r>
            <a:endParaRPr b="0" lang="en-US" sz="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4648320" y="3244680"/>
            <a:ext cx="2286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292934"/>
                </a:solidFill>
                <a:latin typeface="Arial"/>
              </a:rPr>
              <a:t>http://udel.edu/~mcdonald/mythpix/mythintrotongue.jpg</a:t>
            </a:r>
            <a:endParaRPr b="0" lang="en-US" sz="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533520" y="3292560"/>
            <a:ext cx="3962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292934"/>
                </a:solidFill>
                <a:latin typeface="Arial"/>
              </a:rPr>
              <a:t>http://3.bp.blogspot.com/-xpx9AXnWJN0/TbD0kpPy7lI/AAAAAAAAABA/BzStLEBDR6I/s1600/earlobe.jpg</a:t>
            </a:r>
            <a:endParaRPr b="0" lang="en-US" sz="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Why do you look the way you do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 traits you have are determined by your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genes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gene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is the basic unit of heredity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Genes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are </a:t>
            </a:r>
            <a:r>
              <a:rPr b="0" lang="en-US" sz="2400" spc="-1" strike="noStrike" u="sng">
                <a:solidFill>
                  <a:srgbClr val="292934"/>
                </a:solidFill>
                <a:uFillTx/>
                <a:latin typeface="Arial"/>
              </a:rPr>
              <a:t>information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for a trait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8086680" y="6477120"/>
            <a:ext cx="10666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0DCE-E5C1-4647-84C6-AA36710D749A}" type="slidenum">
              <a:rPr b="1" lang="en-US" sz="4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86" name="Picture 5" descr="http://www.msg.ucsf.edu/local/programs/ribbons/help/dna_rgb.gif "/>
          <p:cNvPicPr/>
          <p:nvPr/>
        </p:nvPicPr>
        <p:blipFill>
          <a:blip r:embed="rId1"/>
          <a:stretch/>
        </p:blipFill>
        <p:spPr>
          <a:xfrm>
            <a:off x="2057400" y="3352680"/>
            <a:ext cx="4191120" cy="29908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2"/>
          <p:cNvSpPr/>
          <p:nvPr/>
        </p:nvSpPr>
        <p:spPr>
          <a:xfrm>
            <a:off x="2438280" y="636732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92934"/>
                </a:solidFill>
                <a:latin typeface="Arial"/>
              </a:rPr>
              <a:t>https://encrypted-tbn1.gstatic.com/images?q=tbn:ANd9GcQTLgdb1P-kXnoGvI7Jlv0vougjEfoPtW7auSgR0XlFmTfiJd-i</a:t>
            </a:r>
            <a:endParaRPr b="0" lang="en-US" sz="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Alleles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Just like many of our traits each of our genes comes in two versions.  These versions can be a little different from each other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e call these versions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Alleles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e represent them with capital and lowercase letters and we show them as a pair of letters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r example alleles for a trait might be shown as T or 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8086680" y="6477120"/>
            <a:ext cx="10666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A0AD-2996-42DF-9B08-FF21A93B96D7}" type="slidenum">
              <a:rPr b="1" lang="en-US" sz="4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How are the alleles different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lleles can be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dominant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recessive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dominant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allele is represented by a capital letter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recessive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 allele is represented by a lowercase letter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Each person has two alleles for a trait so we write them in pairs like </a:t>
            </a: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Tt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hen a person has one dominant allele and one recessive allele the dominant allele is the trait the person will hav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8086680" y="6477120"/>
            <a:ext cx="10666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A037-7330-485B-B31B-8EFD9CDDF8A7}" type="slidenum">
              <a:rPr b="1" lang="en-US" sz="4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How are the alleles different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6840" y="1600200"/>
            <a:ext cx="7924680" cy="13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ere are two alleles for whether or not you can roll your tongue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8086680" y="6477120"/>
            <a:ext cx="10666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016A-E097-4192-B036-6A23C574649E}" type="slidenum">
              <a:rPr b="1" lang="en-US" sz="4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3276720" y="27432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8" name="TextBox 5"/>
          <p:cNvSpPr/>
          <p:nvPr/>
        </p:nvSpPr>
        <p:spPr>
          <a:xfrm>
            <a:off x="457200" y="37242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o you can have one of three possible combinations of these alleles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9" name="TextBox 6"/>
          <p:cNvSpPr/>
          <p:nvPr/>
        </p:nvSpPr>
        <p:spPr>
          <a:xfrm>
            <a:off x="990720" y="462924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TT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0" name="TextBox 6"/>
          <p:cNvSpPr/>
          <p:nvPr/>
        </p:nvSpPr>
        <p:spPr>
          <a:xfrm>
            <a:off x="3886200" y="46386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5400" spc="-1" strike="noStrike">
                <a:solidFill>
                  <a:srgbClr val="00b0f0"/>
                </a:solidFill>
                <a:latin typeface="Arial"/>
              </a:rPr>
              <a:t>t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1" name="TextBox 6"/>
          <p:cNvSpPr/>
          <p:nvPr/>
        </p:nvSpPr>
        <p:spPr>
          <a:xfrm>
            <a:off x="6553080" y="46386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f0"/>
                </a:solidFill>
                <a:latin typeface="Arial"/>
              </a:rPr>
              <a:t>tt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2" name="Right Arrow Callout 2"/>
          <p:cNvSpPr/>
          <p:nvPr/>
        </p:nvSpPr>
        <p:spPr>
          <a:xfrm>
            <a:off x="1600200" y="2900520"/>
            <a:ext cx="1714680" cy="609480"/>
          </a:xfrm>
          <a:prstGeom prst="rightArrowCallout">
            <a:avLst>
              <a:gd name="adj1" fmla="val 25002"/>
              <a:gd name="adj2" fmla="val 25000"/>
              <a:gd name="adj3" fmla="val 25007"/>
              <a:gd name="adj4" fmla="val 73125"/>
            </a:avLst>
          </a:prstGeom>
          <a:solidFill>
            <a:srgbClr val="d2533c"/>
          </a:solidFill>
          <a:ln w="262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Roll Tongu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3" name="Right Arrow Callout 10"/>
          <p:cNvSpPr/>
          <p:nvPr/>
        </p:nvSpPr>
        <p:spPr>
          <a:xfrm flipH="1">
            <a:off x="5104800" y="2900520"/>
            <a:ext cx="1904760" cy="609480"/>
          </a:xfrm>
          <a:prstGeom prst="rightArrowCallout">
            <a:avLst>
              <a:gd name="adj1" fmla="val 25002"/>
              <a:gd name="adj2" fmla="val 25000"/>
              <a:gd name="adj3" fmla="val 25002"/>
              <a:gd name="adj4" fmla="val 73125"/>
            </a:avLst>
          </a:prstGeom>
          <a:solidFill>
            <a:srgbClr val="00b0f0"/>
          </a:solidFill>
          <a:ln w="262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 Roll Tongu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4726800" y="27907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f0"/>
                </a:solidFill>
                <a:latin typeface="Arial"/>
              </a:rPr>
              <a:t>t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3"/>
          <p:cNvSpPr/>
          <p:nvPr/>
        </p:nvSpPr>
        <p:spPr>
          <a:xfrm>
            <a:off x="1066680" y="25909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TT</a:t>
            </a:r>
            <a:endParaRPr b="0" lang="en-US" sz="7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6" name="TextBox 4"/>
          <p:cNvSpPr/>
          <p:nvPr/>
        </p:nvSpPr>
        <p:spPr>
          <a:xfrm>
            <a:off x="1181160" y="37720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7200" spc="-1" strike="noStrike">
                <a:solidFill>
                  <a:srgbClr val="00b0f0"/>
                </a:solidFill>
                <a:latin typeface="Arial"/>
              </a:rPr>
              <a:t>t</a:t>
            </a:r>
            <a:endParaRPr b="0" lang="en-US" sz="7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7" name="TextBox 5"/>
          <p:cNvSpPr/>
          <p:nvPr/>
        </p:nvSpPr>
        <p:spPr>
          <a:xfrm>
            <a:off x="1295280" y="48769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f0"/>
                </a:solidFill>
                <a:latin typeface="Arial"/>
              </a:rPr>
              <a:t>tt</a:t>
            </a:r>
            <a:endParaRPr b="0" lang="en-US" sz="7200" spc="-1" strike="noStrike">
              <a:solidFill>
                <a:srgbClr val="292934"/>
              </a:solidFill>
              <a:latin typeface="Arial"/>
            </a:endParaRPr>
          </a:p>
        </p:txBody>
      </p:sp>
      <p:cxnSp>
        <p:nvCxnSpPr>
          <p:cNvPr id="308" name="Straight Arrow Connector 18"/>
          <p:cNvCxnSpPr/>
          <p:nvPr/>
        </p:nvCxnSpPr>
        <p:spPr>
          <a:xfrm>
            <a:off x="3048120" y="3188880"/>
            <a:ext cx="2286720" cy="1080"/>
          </a:xfrm>
          <a:prstGeom prst="straightConnector1">
            <a:avLst/>
          </a:prstGeom>
          <a:ln w="50760">
            <a:solidFill>
              <a:srgbClr val="93a299"/>
            </a:solidFill>
            <a:miter/>
            <a:tailEnd len="med" type="arrow" w="med"/>
          </a:ln>
        </p:spPr>
      </p:cxnSp>
      <p:cxnSp>
        <p:nvCxnSpPr>
          <p:cNvPr id="309" name="Straight Arrow Connector 23"/>
          <p:cNvCxnSpPr/>
          <p:nvPr/>
        </p:nvCxnSpPr>
        <p:spPr>
          <a:xfrm>
            <a:off x="3048120" y="4503240"/>
            <a:ext cx="2286720" cy="1080"/>
          </a:xfrm>
          <a:prstGeom prst="straightConnector1">
            <a:avLst/>
          </a:prstGeom>
          <a:ln w="50760">
            <a:solidFill>
              <a:srgbClr val="93a299"/>
            </a:solidFill>
            <a:miter/>
            <a:tailEnd len="med" type="arrow" w="med"/>
          </a:ln>
        </p:spPr>
      </p:cxnSp>
      <p:cxnSp>
        <p:nvCxnSpPr>
          <p:cNvPr id="310" name="Straight Arrow Connector 24"/>
          <p:cNvCxnSpPr/>
          <p:nvPr/>
        </p:nvCxnSpPr>
        <p:spPr>
          <a:xfrm>
            <a:off x="3006720" y="5597280"/>
            <a:ext cx="2286720" cy="1080"/>
          </a:xfrm>
          <a:prstGeom prst="straightConnector1">
            <a:avLst/>
          </a:prstGeom>
          <a:ln w="50760">
            <a:solidFill>
              <a:srgbClr val="93a299"/>
            </a:solidFill>
            <a:miter/>
            <a:tailEnd len="med" type="arrow" w="med"/>
          </a:ln>
        </p:spPr>
      </p:cxnSp>
      <p:sp>
        <p:nvSpPr>
          <p:cNvPr id="311" name="Slide Number Placeholder 2"/>
          <p:cNvSpPr/>
          <p:nvPr/>
        </p:nvSpPr>
        <p:spPr>
          <a:xfrm>
            <a:off x="8086680" y="6477120"/>
            <a:ext cx="10666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D659-FDE0-42FE-AC66-71CAD6E50796}" type="slidenum">
              <a:rPr b="1" lang="en-US" sz="4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2" name="TextBox 16"/>
          <p:cNvSpPr/>
          <p:nvPr/>
        </p:nvSpPr>
        <p:spPr>
          <a:xfrm>
            <a:off x="457200" y="14367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o if you have these alleles can you roll your tongue (being able to roll your tongue is dominant)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How are the alleles different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4" name="TextBox 10"/>
          <p:cNvSpPr/>
          <p:nvPr/>
        </p:nvSpPr>
        <p:spPr>
          <a:xfrm>
            <a:off x="5791320" y="273384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5" name="TextBox 11"/>
          <p:cNvSpPr/>
          <p:nvPr/>
        </p:nvSpPr>
        <p:spPr>
          <a:xfrm>
            <a:off x="5791320" y="402912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6" name="TextBox 12"/>
          <p:cNvSpPr/>
          <p:nvPr/>
        </p:nvSpPr>
        <p:spPr>
          <a:xfrm>
            <a:off x="5867280" y="504684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f0"/>
                </a:solidFill>
                <a:latin typeface="Arial"/>
              </a:rPr>
              <a:t>NO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How are the alleles different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Each pair of alleles has a name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8086680" y="6477120"/>
            <a:ext cx="10666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F150-40A0-4F57-93C6-0046C455AFB7}" type="slidenum">
              <a:rPr b="1" lang="en-US" sz="4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0" name="TextBox 6"/>
          <p:cNvSpPr/>
          <p:nvPr/>
        </p:nvSpPr>
        <p:spPr>
          <a:xfrm>
            <a:off x="1143000" y="302904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TT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1" name="TextBox 6"/>
          <p:cNvSpPr/>
          <p:nvPr/>
        </p:nvSpPr>
        <p:spPr>
          <a:xfrm>
            <a:off x="7086600" y="30481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b0f0"/>
                </a:solidFill>
                <a:latin typeface="Arial"/>
              </a:rPr>
              <a:t>tt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2" name="TextBox 9"/>
          <p:cNvSpPr/>
          <p:nvPr/>
        </p:nvSpPr>
        <p:spPr>
          <a:xfrm>
            <a:off x="304920" y="43434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Homozygous Dominan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3" name="TextBox 10"/>
          <p:cNvSpPr/>
          <p:nvPr/>
        </p:nvSpPr>
        <p:spPr>
          <a:xfrm>
            <a:off x="3276720" y="4389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Heterozygous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4" name="TextBox 11"/>
          <p:cNvSpPr/>
          <p:nvPr/>
        </p:nvSpPr>
        <p:spPr>
          <a:xfrm>
            <a:off x="6248520" y="43894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34"/>
                </a:solidFill>
                <a:latin typeface="Arial"/>
              </a:rPr>
              <a:t>Homozygous Recessiv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5" name="TextBox 6"/>
          <p:cNvSpPr/>
          <p:nvPr/>
        </p:nvSpPr>
        <p:spPr>
          <a:xfrm>
            <a:off x="4343400" y="302904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5400" spc="-1" strike="noStrike">
                <a:solidFill>
                  <a:srgbClr val="00b0f0"/>
                </a:solidFill>
                <a:latin typeface="Arial"/>
              </a:rPr>
              <a:t>t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3"/>
          <p:cNvSpPr/>
          <p:nvPr/>
        </p:nvSpPr>
        <p:spPr>
          <a:xfrm>
            <a:off x="3581280" y="25909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TT</a:t>
            </a:r>
            <a:endParaRPr b="0" lang="en-US" sz="7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1143000" y="25909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7200" spc="-1" strike="noStrike">
                <a:solidFill>
                  <a:srgbClr val="00b0f0"/>
                </a:solidFill>
                <a:latin typeface="Arial"/>
              </a:rPr>
              <a:t>t</a:t>
            </a:r>
            <a:endParaRPr b="0" lang="en-US" sz="7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6324480" y="26668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f0"/>
                </a:solidFill>
                <a:latin typeface="Arial"/>
              </a:rPr>
              <a:t>tt</a:t>
            </a:r>
            <a:endParaRPr b="0" lang="en-US" sz="7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9" name="Slide Number Placeholder 2"/>
          <p:cNvSpPr/>
          <p:nvPr/>
        </p:nvSpPr>
        <p:spPr>
          <a:xfrm>
            <a:off x="8086680" y="6477120"/>
            <a:ext cx="10666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A431-519E-4F51-A12B-5E915AEFDE9B}" type="slidenum">
              <a:rPr b="1" lang="en-US" sz="4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0" name="TextBox 16"/>
          <p:cNvSpPr/>
          <p:nvPr/>
        </p:nvSpPr>
        <p:spPr>
          <a:xfrm>
            <a:off x="457200" y="14367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What is the name for each combination?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533c"/>
                </a:solidFill>
                <a:latin typeface="Arial"/>
              </a:rPr>
              <a:t>How are the alleles different?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3733920" y="472428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7200" spc="-1" strike="noStrike">
                <a:solidFill>
                  <a:srgbClr val="00b0f0"/>
                </a:solidFill>
                <a:latin typeface="Arial"/>
              </a:rPr>
              <a:t>t</a:t>
            </a:r>
            <a:endParaRPr b="0" lang="en-US" sz="7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3" name="TextBox 3"/>
          <p:cNvSpPr/>
          <p:nvPr/>
        </p:nvSpPr>
        <p:spPr>
          <a:xfrm>
            <a:off x="6095880" y="47242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TT</a:t>
            </a:r>
            <a:endParaRPr b="0" lang="en-US" sz="7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1295280" y="46483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f0"/>
                </a:solidFill>
                <a:latin typeface="Arial"/>
              </a:rPr>
              <a:t>tt</a:t>
            </a:r>
            <a:endParaRPr b="0" lang="en-US" sz="7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5" name="TextBox 16"/>
          <p:cNvSpPr/>
          <p:nvPr/>
        </p:nvSpPr>
        <p:spPr>
          <a:xfrm>
            <a:off x="5486400" y="5791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Homozygous Dominan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6" name="TextBox 19"/>
          <p:cNvSpPr/>
          <p:nvPr/>
        </p:nvSpPr>
        <p:spPr>
          <a:xfrm>
            <a:off x="228600" y="3652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Heterozygou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7" name="TextBox 20"/>
          <p:cNvSpPr/>
          <p:nvPr/>
        </p:nvSpPr>
        <p:spPr>
          <a:xfrm>
            <a:off x="5486400" y="36576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Homozygous Recessiv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8" name="TextBox 21"/>
          <p:cNvSpPr/>
          <p:nvPr/>
        </p:nvSpPr>
        <p:spPr>
          <a:xfrm>
            <a:off x="2819520" y="5786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Heterozygous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9" name="TextBox 22"/>
          <p:cNvSpPr/>
          <p:nvPr/>
        </p:nvSpPr>
        <p:spPr>
          <a:xfrm>
            <a:off x="2743200" y="36655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Homozygous Dominan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0" name="TextBox 25"/>
          <p:cNvSpPr/>
          <p:nvPr/>
        </p:nvSpPr>
        <p:spPr>
          <a:xfrm>
            <a:off x="228600" y="56466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34"/>
                </a:solidFill>
                <a:latin typeface="Arial"/>
              </a:rPr>
              <a:t>Homozygous Recessive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7:01:51Z</dcterms:created>
  <dc:creator>Clark Chinn</dc:creator>
  <dc:description/>
  <dc:language>en-US</dc:language>
  <cp:lastModifiedBy>Admin</cp:lastModifiedBy>
  <cp:lastPrinted>2012-01-18T13:16:40Z</cp:lastPrinted>
  <dcterms:modified xsi:type="dcterms:W3CDTF">2014-04-25T17:57:44Z</dcterms:modified>
  <cp:revision>78</cp:revision>
  <dc:subject/>
  <dc:title>Slide 1</dc:title>
</cp:coreProperties>
</file>