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C769-C6C9-4EEC-8054-B725CA31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06C1-7D25-4451-8091-296F1752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C4F-82B0-49AF-80D9-EF58FDBD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88D-66B0-4D8C-ADDE-1E84C745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896-DDC6-4884-9038-3102C6AE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C5A5-8B06-4BE1-803B-C915F5F7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339-94D0-4014-8AB6-EEE2BBD5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B05-5A7A-483E-87D8-0A82D4E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E24-E85A-4148-B025-83F991D3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AD3-4446-4CE5-A6CC-84DF91A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6E2-2058-47B4-83A4-A97599E1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939-3235-4BC0-BFB1-60AC75C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D7D-EC94-4A4C-AAE5-71EF01C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29C-81C8-4871-AC43-2F57271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6BE-6305-4A9F-9993-CA50897C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BE43-0773-404B-A908-8F4DEF5BE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Chinn-Student\Dropbox\ISS2 D-GENETICS\Lesson 5 - Punnet Squares\ISS2 Genetics Lesson 5 - Genetics Terms and Line Diagrams SE_Page_1.png"/>
          <p:cNvPicPr/>
          <p:nvPr/>
        </p:nvPicPr>
        <p:blipFill>
          <a:blip r:embed="rId1"/>
          <a:srcRect l="9895" t="7639" r="10289" b="50891"/>
          <a:stretch/>
        </p:blipFill>
        <p:spPr>
          <a:xfrm>
            <a:off x="457200" y="1828800"/>
            <a:ext cx="807732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775160" y="228600"/>
            <a:ext cx="48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the front of your pa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Practi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2362320" y="5105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6"/>
          <p:cNvCxnSpPr/>
          <p:nvPr/>
        </p:nvCxnSpPr>
        <p:spPr>
          <a:xfrm flipH="1" flipV="1">
            <a:off x="5257080" y="3580560"/>
            <a:ext cx="1524600" cy="381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Box 7"/>
          <p:cNvSpPr/>
          <p:nvPr/>
        </p:nvSpPr>
        <p:spPr>
          <a:xfrm>
            <a:off x="6781680" y="36212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y F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9"/>
          <p:cNvCxnSpPr/>
          <p:nvPr/>
        </p:nvCxnSpPr>
        <p:spPr>
          <a:xfrm flipH="1">
            <a:off x="5714280" y="798480"/>
            <a:ext cx="762840" cy="116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TextBox 10"/>
          <p:cNvSpPr/>
          <p:nvPr/>
        </p:nvSpPr>
        <p:spPr>
          <a:xfrm>
            <a:off x="6477120" y="38088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ange F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2819520" y="5410080"/>
            <a:ext cx="400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666880" y="361152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724280" y="35812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934320" y="3581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362320" y="457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5181480" y="41112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685800" y="3581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 flipH="1">
            <a:off x="1066320" y="1752480"/>
            <a:ext cx="1524960" cy="2021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4" name="Straight Arrow Connector 12"/>
          <p:cNvCxnSpPr/>
          <p:nvPr/>
        </p:nvCxnSpPr>
        <p:spPr>
          <a:xfrm flipH="1">
            <a:off x="2057040" y="1752480"/>
            <a:ext cx="3277440" cy="2098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5" name="Straight Arrow Connector 14"/>
          <p:cNvCxnSpPr/>
          <p:nvPr/>
        </p:nvCxnSpPr>
        <p:spPr>
          <a:xfrm>
            <a:off x="2819520" y="1828440"/>
            <a:ext cx="457920" cy="2057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6" name="Straight Arrow Connector 16"/>
          <p:cNvCxnSpPr/>
          <p:nvPr/>
        </p:nvCxnSpPr>
        <p:spPr>
          <a:xfrm flipH="1">
            <a:off x="3809880" y="1752120"/>
            <a:ext cx="2439000" cy="2134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7" name="Straight Arrow Connector 18"/>
          <p:cNvCxnSpPr/>
          <p:nvPr/>
        </p:nvCxnSpPr>
        <p:spPr>
          <a:xfrm>
            <a:off x="3580920" y="1828440"/>
            <a:ext cx="2210760" cy="2057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98" name="Straight Arrow Connector 20"/>
          <p:cNvCxnSpPr/>
          <p:nvPr/>
        </p:nvCxnSpPr>
        <p:spPr>
          <a:xfrm>
            <a:off x="6400800" y="1828440"/>
            <a:ext cx="1296000" cy="2134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9" name="Straight Arrow Connector 24"/>
          <p:cNvCxnSpPr/>
          <p:nvPr/>
        </p:nvCxnSpPr>
        <p:spPr>
          <a:xfrm flipH="1">
            <a:off x="5180760" y="1752120"/>
            <a:ext cx="381960" cy="2134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0" name="Straight Arrow Connector 26"/>
          <p:cNvCxnSpPr/>
          <p:nvPr/>
        </p:nvCxnSpPr>
        <p:spPr>
          <a:xfrm>
            <a:off x="3733560" y="1752120"/>
            <a:ext cx="3353400" cy="2210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upload.wikimedia.org/wikipedia/commons/2/24/Rnai_phenotype_petunia_crop.png"/>
          <p:cNvPicPr/>
          <p:nvPr/>
        </p:nvPicPr>
        <p:blipFill>
          <a:blip r:embed="rId1"/>
          <a:stretch/>
        </p:blipFill>
        <p:spPr>
          <a:xfrm>
            <a:off x="228600" y="1523880"/>
            <a:ext cx="8701200" cy="2438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3"/>
          <p:cNvSpPr/>
          <p:nvPr/>
        </p:nvSpPr>
        <p:spPr>
          <a:xfrm>
            <a:off x="2666880" y="54100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0" r="49735" b="15325"/>
          <a:stretch/>
        </p:blipFill>
        <p:spPr>
          <a:xfrm>
            <a:off x="1219320" y="762120"/>
            <a:ext cx="129528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886200" y="213372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traight Arrow Connector 6"/>
          <p:cNvCxnSpPr/>
          <p:nvPr/>
        </p:nvCxnSpPr>
        <p:spPr>
          <a:xfrm flipH="1" flipV="1">
            <a:off x="1828080" y="3733560"/>
            <a:ext cx="1600920" cy="762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Box 7"/>
          <p:cNvSpPr/>
          <p:nvPr/>
        </p:nvSpPr>
        <p:spPr>
          <a:xfrm>
            <a:off x="3429000" y="4191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ing a 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752480" y="22860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733920" y="22860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10080" y="22860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743200" y="487692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451800" y="2379600"/>
            <a:ext cx="8142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and Homozyg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1752480" y="22860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5257800" y="22860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572000" y="42670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57200" y="42670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3733920" y="20574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905120" y="51814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3886200" y="22096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209680" y="5181480"/>
            <a:ext cx="54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4191120" y="24382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2057400" y="518148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1261080" y="2379600"/>
            <a:ext cx="6523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3886200" y="251460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2209680" y="51814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"/>
          <p:cNvSpPr/>
          <p:nvPr/>
        </p:nvSpPr>
        <p:spPr>
          <a:xfrm>
            <a:off x="3809880" y="22096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2209680" y="518148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321920" y="2379600"/>
            <a:ext cx="6401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t and Reces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3809880" y="22096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2209680" y="51814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581280" y="2286000"/>
            <a:ext cx="1295640" cy="1447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3809880" y="2209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209680" y="51814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4648320" y="2362320"/>
            <a:ext cx="99036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3733920" y="28195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2209680" y="51814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057400" y="10666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genotype, will the phenotype be dominant or reces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"/>
          <p:cNvSpPr/>
          <p:nvPr/>
        </p:nvSpPr>
        <p:spPr>
          <a:xfrm>
            <a:off x="3809880" y="269712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0" y="51814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057400" y="1295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genotype, will the phenotype be dominant or reces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2"/>
          <p:cNvSpPr/>
          <p:nvPr/>
        </p:nvSpPr>
        <p:spPr>
          <a:xfrm>
            <a:off x="3657600" y="2697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H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0" y="51814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2057400" y="1295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genotype, will the phenotype be dominant or reces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3809880" y="26971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2438280" y="51814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057400" y="1295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genotype, will the phenotype be dominant or reces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3809880" y="26971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819520" y="518148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cess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2057400" y="1295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genotype, will the phenotype be dominant or reces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biotechlearn.org.nz/var/biotechlearn/storage/images/focus_stories/evolved_enzymes/images/fly_genotype_and_phenotype/117967-1-eng-AU/fly_genotype_and_phenotype_large.jpg"/>
          <p:cNvPicPr/>
          <p:nvPr/>
        </p:nvPicPr>
        <p:blipFill>
          <a:blip r:embed="rId1"/>
          <a:srcRect l="59708" t="17225" r="0" b="0"/>
          <a:stretch/>
        </p:blipFill>
        <p:spPr>
          <a:xfrm>
            <a:off x="4761000" y="2460600"/>
            <a:ext cx="2057400" cy="317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295280" y="30481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066680" y="1363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105520" y="128736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8"/>
          <p:cNvCxnSpPr/>
          <p:nvPr/>
        </p:nvCxnSpPr>
        <p:spPr>
          <a:xfrm flipH="1">
            <a:off x="6208200" y="3908160"/>
            <a:ext cx="53424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TextBox 11"/>
          <p:cNvSpPr/>
          <p:nvPr/>
        </p:nvSpPr>
        <p:spPr>
          <a:xfrm>
            <a:off x="6637320" y="3679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g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2"/>
          <p:cNvSpPr/>
          <p:nvPr/>
        </p:nvSpPr>
        <p:spPr>
          <a:xfrm>
            <a:off x="3352680" y="269712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Q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38280" y="51814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min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2057400" y="1295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genotype, will the phenotype be dominant or recess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http://www.bbc.co.uk/schools/gcsebitesize/science/images/25_environmental_variation.gif"/>
          <p:cNvPicPr/>
          <p:nvPr/>
        </p:nvPicPr>
        <p:blipFill>
          <a:blip r:embed="rId1"/>
          <a:srcRect l="57005" t="29277" r="8798" b="17074"/>
          <a:stretch/>
        </p:blipFill>
        <p:spPr>
          <a:xfrm>
            <a:off x="2057400" y="1447920"/>
            <a:ext cx="4457880" cy="2971800"/>
          </a:xfrm>
          <a:prstGeom prst="rect">
            <a:avLst/>
          </a:prstGeom>
          <a:ln w="0">
            <a:noFill/>
          </a:ln>
        </p:spPr>
      </p:pic>
      <p:cxnSp>
        <p:nvCxnSpPr>
          <p:cNvPr id="59" name="Straight Arrow Connector 2"/>
          <p:cNvCxnSpPr>
            <a:stCxn id="60" idx="1"/>
          </p:cNvCxnSpPr>
          <p:nvPr/>
        </p:nvCxnSpPr>
        <p:spPr>
          <a:xfrm flipH="1">
            <a:off x="4723920" y="1847520"/>
            <a:ext cx="991440" cy="438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TextBox 3"/>
          <p:cNvSpPr/>
          <p:nvPr/>
        </p:nvSpPr>
        <p:spPr>
          <a:xfrm>
            <a:off x="5715000" y="1523880"/>
            <a:ext cx="28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wn F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666880" y="54100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295960" cy="4600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666880" y="54100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076880" cy="5124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666880" y="541008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064-5B3A-41BA-8819-783B80FEA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581280" y="14479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3162240" y="3352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887480" y="8380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590920" y="5181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4"/>
          <p:cNvCxnSpPr/>
          <p:nvPr/>
        </p:nvCxnSpPr>
        <p:spPr>
          <a:xfrm flipH="1">
            <a:off x="5486040" y="2437920"/>
            <a:ext cx="1829520" cy="381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TextBox 5"/>
          <p:cNvSpPr/>
          <p:nvPr/>
        </p:nvSpPr>
        <p:spPr>
          <a:xfrm>
            <a:off x="6781680" y="19810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rk col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8"/>
          <p:cNvCxnSpPr/>
          <p:nvPr/>
        </p:nvCxnSpPr>
        <p:spPr>
          <a:xfrm>
            <a:off x="1447920" y="1523520"/>
            <a:ext cx="1829520" cy="381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TextBox 9"/>
          <p:cNvSpPr/>
          <p:nvPr/>
        </p:nvSpPr>
        <p:spPr>
          <a:xfrm>
            <a:off x="-228600" y="106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ght Col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157-A755-4334-B623-2F6CA2DA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733920" y="14479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162240" y="3352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6400800" y="14479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990720" y="144792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1:10:21Z</dcterms:created>
  <dc:creator>Ron</dc:creator>
  <dc:description/>
  <dc:language>en-US</dc:language>
  <cp:lastModifiedBy>Praccis</cp:lastModifiedBy>
  <dcterms:modified xsi:type="dcterms:W3CDTF">2013-03-11T22:49:08Z</dcterms:modified>
  <cp:revision>58</cp:revision>
  <dc:subject/>
  <dc:title>Slide 1</dc:title>
</cp:coreProperties>
</file>