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B22-62ED-4C01-899C-D659052B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83E-71CF-4E48-9DEB-F646E62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074-026E-4600-ABDC-52405F87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AED-029C-4267-8F0A-1F375429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0D0C-8CA0-47EE-9861-F8A47B71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B2EB-763D-4C98-BD1F-4C39F7DA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3DCA-42C2-4E21-8443-EDDE5866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C63C-BE1F-4AED-8A61-614A7372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672C-A4E3-44F8-9459-D8A1D8E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EE4-476F-4455-B72C-3D825149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B34C-D726-41D2-868C-8AF5A08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2C40-3DAF-4A58-A7DE-B486C40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EC78-B0B6-4934-A6B8-68E95DC1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2F4C-112B-4CD3-830A-470551F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60F1-A694-480E-AD29-1E8E8E75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65ED-728C-44B9-9DF4-6FE56B9D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A76-8BE8-43F1-859B-4C0A20F0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1556-801B-4558-99C1-3AB04A28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1024D-B031-4366-B92C-D489E437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36E0-EC9A-4775-B702-8BE6A94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8A71-35AB-4F69-8211-E6A642F1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CC56-ED48-4DB7-945F-F54A6073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9A0-EE41-4DF0-A31F-7C317E7F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5848-6175-42F3-8DA2-B0D16A58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AAC3-4549-4CC5-A944-E86DDC61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22F5-3BD2-4DE8-A8DF-5A80FF4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536B-D2D8-43E2-9F8D-6C87966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F408-84A9-4657-9A04-3BA2580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614D-BDA2-46C3-AC29-03F11C38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8CA3-7056-45A6-B49B-5C21428D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3E5-6B02-4BF2-8EF6-E6898E7B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FCF-8B74-46B9-AAF8-20BA68E3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2CF-0377-4120-9D09-D1DFE0C6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3D2-7E35-4B68-B3C4-782137AC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FE0-01CD-440A-A360-C4E6BA81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235-2DD7-4B01-934D-69B87C0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BB2A-D200-46C6-9C1B-1C075FB03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C780-54DD-4C77-8260-864FD0663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90FF-36F3-4760-AB6A-EFC7EB3CB4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FC36-645D-4ACB-A0C3-13E13EABA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25F5-2636-48FF-A0BF-7268708D2F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B5F-C621-45A8-8765-0F45FE745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160" y="1523520"/>
            <a:ext cx="5715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 New Way to Fight Virus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July 1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mbri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,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patitis B is a disease caused by a virus that attacks the liver. It can be fat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ientists have been testing a new way of treating people who are sick with the Hepatitis B virus.  They are hoping that injecting sick people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er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wice a week for a year will cure them of the viru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interfer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8"/>
          <p:cNvSpPr/>
          <p:nvPr/>
        </p:nvSpPr>
        <p:spPr>
          <a:xfrm>
            <a:off x="685800" y="1143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94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rcRect l="0" t="0" r="48227" b="0"/>
          <a:stretch/>
        </p:blipFill>
        <p:spPr>
          <a:xfrm>
            <a:off x="6400800" y="2209680"/>
            <a:ext cx="2162160" cy="2857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"/>
          <p:cNvPicPr/>
          <p:nvPr/>
        </p:nvPicPr>
        <p:blipFill>
          <a:blip r:embed="rId3"/>
          <a:stretch/>
        </p:blipFill>
        <p:spPr>
          <a:xfrm>
            <a:off x="4267080" y="152280"/>
            <a:ext cx="4419720" cy="909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609480" y="228600"/>
            <a:ext cx="6400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cience New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News in Science, Reported Here Fir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7848720" y="5943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383680" y="4135320"/>
            <a:ext cx="561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160" y="137160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eron is a protein that is produced by the body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cells when they are attacked by bacteria or viruses.  The interferon protein moves out of the cell and turns on the body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immune cells. Then immune cells destroy the virus.  Click on an interferon protein to see what they 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09480" y="228600"/>
            <a:ext cx="6400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cience New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News in Science, Reported Here Fir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>
            <a:off x="685800" y="1143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6094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762120" y="2743200"/>
            <a:ext cx="2590560" cy="2438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993240" y="350532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>
            <a:hlinkClick r:id="" action="ppaction://hlinkshowjump?jump=nextslide"/>
          </p:cNvPr>
          <p:cNvSpPr/>
          <p:nvPr/>
        </p:nvSpPr>
        <p:spPr>
          <a:xfrm>
            <a:off x="2590920" y="380988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6">
            <a:hlinkClick r:id="" action="ppaction://hlinkshowjump?jump=nextslide"/>
          </p:cNvPr>
          <p:cNvSpPr/>
          <p:nvPr/>
        </p:nvSpPr>
        <p:spPr>
          <a:xfrm>
            <a:off x="2743200" y="3962520"/>
            <a:ext cx="22860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>
            <a:hlinkClick r:id="" action="ppaction://hlinkshowjump?jump=nextslide"/>
          </p:cNvPr>
          <p:cNvSpPr/>
          <p:nvPr/>
        </p:nvSpPr>
        <p:spPr>
          <a:xfrm>
            <a:off x="2438280" y="403848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>
            <a:hlinkClick r:id="" action="ppaction://hlinkshowjump?jump=nextslide"/>
          </p:cNvPr>
          <p:cNvSpPr/>
          <p:nvPr/>
        </p:nvSpPr>
        <p:spPr>
          <a:xfrm>
            <a:off x="2590920" y="434340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H="1">
            <a:off x="2742840" y="2971800"/>
            <a:ext cx="6094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3431880" y="2743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eron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2">
            <a:hlinkClick r:id="" action="ppaction://hlinkshowjump?jump=nextslide"/>
          </p:cNvPr>
          <p:cNvSpPr/>
          <p:nvPr/>
        </p:nvSpPr>
        <p:spPr>
          <a:xfrm>
            <a:off x="2286000" y="320040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3">
            <a:hlinkClick r:id="" action="ppaction://hlinkshowjump?jump=nextslide"/>
          </p:cNvPr>
          <p:cNvSpPr/>
          <p:nvPr/>
        </p:nvSpPr>
        <p:spPr>
          <a:xfrm>
            <a:off x="2133720" y="358128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4" descr=""/>
          <p:cNvPicPr/>
          <p:nvPr/>
        </p:nvPicPr>
        <p:blipFill>
          <a:blip r:embed="rId2"/>
          <a:stretch/>
        </p:blipFill>
        <p:spPr>
          <a:xfrm>
            <a:off x="4267080" y="152280"/>
            <a:ext cx="4419720" cy="909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2057400" y="5715000"/>
            <a:ext cx="4876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erson: Ask your group one question to check your understanding. Make sure you all agree on the  answers to each person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-Point Star 18"/>
          <p:cNvSpPr/>
          <p:nvPr/>
        </p:nvSpPr>
        <p:spPr>
          <a:xfrm>
            <a:off x="4876920" y="3352680"/>
            <a:ext cx="304560" cy="228600"/>
          </a:xfrm>
          <a:custGeom>
            <a:avLst/>
            <a:gdLst>
              <a:gd name="textAreaLeft" fmla="*/ 71280 w 304560"/>
              <a:gd name="textAreaRight" fmla="*/ 233280 w 30456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8-Point Star 19"/>
          <p:cNvSpPr/>
          <p:nvPr/>
        </p:nvSpPr>
        <p:spPr>
          <a:xfrm>
            <a:off x="4191120" y="3962520"/>
            <a:ext cx="304560" cy="228600"/>
          </a:xfrm>
          <a:custGeom>
            <a:avLst/>
            <a:gdLst>
              <a:gd name="textAreaLeft" fmla="*/ 71280 w 304560"/>
              <a:gd name="textAreaRight" fmla="*/ 233280 w 30456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8-Point Star 20"/>
          <p:cNvSpPr/>
          <p:nvPr/>
        </p:nvSpPr>
        <p:spPr>
          <a:xfrm>
            <a:off x="5715000" y="2971800"/>
            <a:ext cx="304920" cy="228600"/>
          </a:xfrm>
          <a:custGeom>
            <a:avLst/>
            <a:gdLst>
              <a:gd name="textAreaLeft" fmla="*/ 71640 w 304920"/>
              <a:gd name="textAreaRight" fmla="*/ 233280 w 30492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8-Point Star 21"/>
          <p:cNvSpPr/>
          <p:nvPr/>
        </p:nvSpPr>
        <p:spPr>
          <a:xfrm>
            <a:off x="4876920" y="4419720"/>
            <a:ext cx="304560" cy="228600"/>
          </a:xfrm>
          <a:custGeom>
            <a:avLst/>
            <a:gdLst>
              <a:gd name="textAreaLeft" fmla="*/ 71280 w 304560"/>
              <a:gd name="textAreaRight" fmla="*/ 233280 w 30456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ghtning Bolt 22"/>
          <p:cNvSpPr/>
          <p:nvPr/>
        </p:nvSpPr>
        <p:spPr>
          <a:xfrm rot="9596400">
            <a:off x="6743520" y="3238560"/>
            <a:ext cx="53316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ghtning Bolt 23"/>
          <p:cNvSpPr/>
          <p:nvPr/>
        </p:nvSpPr>
        <p:spPr>
          <a:xfrm rot="9358200">
            <a:off x="6927480" y="3822480"/>
            <a:ext cx="53352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ghtning Bolt 24"/>
          <p:cNvSpPr/>
          <p:nvPr/>
        </p:nvSpPr>
        <p:spPr>
          <a:xfrm rot="7090800">
            <a:off x="5981760" y="3467160"/>
            <a:ext cx="53352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ghtning Bolt 25"/>
          <p:cNvSpPr/>
          <p:nvPr/>
        </p:nvSpPr>
        <p:spPr>
          <a:xfrm rot="8821200">
            <a:off x="5752800" y="4304880"/>
            <a:ext cx="53352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5962680" y="2666880"/>
            <a:ext cx="28584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6229440" y="243828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"/>
          <p:cNvSpPr/>
          <p:nvPr/>
        </p:nvSpPr>
        <p:spPr>
          <a:xfrm flipH="1" flipV="1">
            <a:off x="6324480" y="4648320"/>
            <a:ext cx="5335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6838920" y="48006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3160" y="14475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eron is a protein that is produced by the body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cells when they are attacked by bacteria or viruses.  The interferon protein moves out of the cell and turns on the body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immune cells. Then immune cells destroy the viru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609480" y="228600"/>
            <a:ext cx="6400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cience New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News in Science, Reported Here Fir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8"/>
          <p:cNvSpPr/>
          <p:nvPr/>
        </p:nvSpPr>
        <p:spPr>
          <a:xfrm>
            <a:off x="685800" y="1143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6094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762120" y="2666880"/>
            <a:ext cx="2590560" cy="2438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993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2590920" y="3733920"/>
            <a:ext cx="22860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6"/>
          <p:cNvSpPr/>
          <p:nvPr/>
        </p:nvSpPr>
        <p:spPr>
          <a:xfrm>
            <a:off x="2743200" y="388620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7"/>
          <p:cNvSpPr/>
          <p:nvPr/>
        </p:nvSpPr>
        <p:spPr>
          <a:xfrm>
            <a:off x="2438280" y="3962520"/>
            <a:ext cx="22860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8"/>
          <p:cNvSpPr/>
          <p:nvPr/>
        </p:nvSpPr>
        <p:spPr>
          <a:xfrm>
            <a:off x="2590920" y="426708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2"/>
          <p:cNvSpPr/>
          <p:nvPr/>
        </p:nvSpPr>
        <p:spPr>
          <a:xfrm>
            <a:off x="2286000" y="3124080"/>
            <a:ext cx="228600" cy="76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3"/>
          <p:cNvSpPr/>
          <p:nvPr/>
        </p:nvSpPr>
        <p:spPr>
          <a:xfrm>
            <a:off x="2133720" y="3505320"/>
            <a:ext cx="228600" cy="75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4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419720" cy="909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2057400" y="5715000"/>
            <a:ext cx="4876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erson: Ask your group one question to check your understanding. Make sure you all agree on the  answers to each person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8-Point Star 18"/>
          <p:cNvSpPr/>
          <p:nvPr/>
        </p:nvSpPr>
        <p:spPr>
          <a:xfrm>
            <a:off x="4876920" y="3276720"/>
            <a:ext cx="304560" cy="228600"/>
          </a:xfrm>
          <a:custGeom>
            <a:avLst/>
            <a:gdLst>
              <a:gd name="textAreaLeft" fmla="*/ 71280 w 304560"/>
              <a:gd name="textAreaRight" fmla="*/ 233280 w 30456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8-Point Star 19"/>
          <p:cNvSpPr/>
          <p:nvPr/>
        </p:nvSpPr>
        <p:spPr>
          <a:xfrm>
            <a:off x="4191120" y="3886200"/>
            <a:ext cx="304560" cy="228600"/>
          </a:xfrm>
          <a:custGeom>
            <a:avLst/>
            <a:gdLst>
              <a:gd name="textAreaLeft" fmla="*/ 71280 w 304560"/>
              <a:gd name="textAreaRight" fmla="*/ 233280 w 30456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8-Point Star 21"/>
          <p:cNvSpPr/>
          <p:nvPr/>
        </p:nvSpPr>
        <p:spPr>
          <a:xfrm>
            <a:off x="5715000" y="2895480"/>
            <a:ext cx="304920" cy="228600"/>
          </a:xfrm>
          <a:custGeom>
            <a:avLst/>
            <a:gdLst>
              <a:gd name="textAreaLeft" fmla="*/ 71640 w 304920"/>
              <a:gd name="textAreaRight" fmla="*/ 233280 w 30492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8-Point Star 22"/>
          <p:cNvSpPr/>
          <p:nvPr/>
        </p:nvSpPr>
        <p:spPr>
          <a:xfrm>
            <a:off x="4876920" y="4343400"/>
            <a:ext cx="304560" cy="228600"/>
          </a:xfrm>
          <a:custGeom>
            <a:avLst/>
            <a:gdLst>
              <a:gd name="textAreaLeft" fmla="*/ 71280 w 304560"/>
              <a:gd name="textAreaRight" fmla="*/ 233280 w 304560"/>
              <a:gd name="textAreaTop" fmla="*/ 53640 h 228600"/>
              <a:gd name="textAreaBottom" fmla="*/ 174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ghtning Bolt 24"/>
          <p:cNvSpPr/>
          <p:nvPr/>
        </p:nvSpPr>
        <p:spPr>
          <a:xfrm rot="9596400">
            <a:off x="6743520" y="3162240"/>
            <a:ext cx="53316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ghtning Bolt 25"/>
          <p:cNvSpPr/>
          <p:nvPr/>
        </p:nvSpPr>
        <p:spPr>
          <a:xfrm rot="9358200">
            <a:off x="6927480" y="3746160"/>
            <a:ext cx="53352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ghtning Bolt 26"/>
          <p:cNvSpPr/>
          <p:nvPr/>
        </p:nvSpPr>
        <p:spPr>
          <a:xfrm rot="7090800">
            <a:off x="5981760" y="3390840"/>
            <a:ext cx="53352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ghtning Bolt 27"/>
          <p:cNvSpPr/>
          <p:nvPr/>
        </p:nvSpPr>
        <p:spPr>
          <a:xfrm rot="8821200">
            <a:off x="5752800" y="4228920"/>
            <a:ext cx="533520" cy="457200"/>
          </a:xfrm>
          <a:prstGeom prst="lightningBol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7848720" y="5943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0926 C 0.02031 -0.01042 0.02413 -0.0118 0.02778 -0.01296 C 0.03177 -0.01435 0.0349 -0.01875 0.03889 -0.02037 C 0.04948 -0.0243 0.06042 -0.02685 0.07083 -0.03148 C 0.10729 -0.02917 0.09236 -0.0331 0.11389 -0.02037 C 0.11389 -0.02037 0.12431 -0.01574 0.12639 -0.01481 C 0.12917 -0.01366 0.13472 -0.01111 0.13472 -0.01111 C 0.16649 -0.01643 0.1934 -0.01574 0.22778 -0.01667 C 0.24115 -0.01805 0.2533 -0.02083 0.26667 -0.02222 C 0.28351 -0.02106 0.28993 -0.025 0.30139 -0.01481 C 0.30382 -0.00509 0.30104 -0.0125 0.30694 -0.00555 C 0.3099 -0.00208 0.31163 0.00394 0.31528 0.00556 C 0.32569 0.01019 0.31285 0.00394 0.32361 0.01111 C 0.33264 0.01713 0.34566 0.01991 0.35556 0.02222 C 0.37865 0.02083 0.40399 0.01921 0.42639 0.00926 C 0.43003 0.00995 0.43385 0.00972 0.4375 0.01111 C 0.44601 0.01412 0.43767 0.01482 0.44444 0.02037 C 0.44965 0.02477 0.45191 0.02408 0.45694 0.02408 E">
                                      <p:cBhvr>
                                        <p:cTn id="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83 0.00371 C 0.04618 0.00509 0.04705 0.00394 0.06528 0.00741 C 0.07934 0.01019 0.06875 0.00787 0.07778 0.01111 C 0.08142 0.0125 0.08889 0.01482 0.08889 0.01482 C 0.09809 0.02292 0.10625 0.03264 0.11528 0.04074 C 0.11719 0.04838 0.1184 0.05278 0.12361 0.05741 C 0.12656 0.06945 0.1224 0.05764 0.12917 0.06482 C 0.13056 0.06621 0.1309 0.06875 0.13194 0.07037 C 0.13681 0.07801 0.14132 0.0875 0.14861 0.09074 C 0.15365 0.1007 0.16181 0.10463 0.16806 0.11297 C 0.17083 0.11667 0.17274 0.12246 0.17639 0.12408 C 0.18924 0.12986 0.20191 0.13264 0.21528 0.13519 C 0.2224 0.14144 0.21667 0.1375 0.22778 0.14074 C 0.2316 0.1419 0.23889 0.14445 0.23889 0.14445 C 0.25833 0.14283 0.2658 0.13889 0.28472 0.13704 C 0.30747 0.12685 0.27899 0.13889 0.30139 0.13148 C 0.30417 0.13056 0.30972 0.12778 0.30972 0.12778 C 0.31632 0.12084 0.32014 0.11389 0.32778 0.10926 C 0.33038 0.10764 0.33611 0.10556 0.33611 0.10556 C 0.33715 0.10579 0.34531 0.10764 0.34722 0.10926 C 0.35382 0.11528 0.3533 0.12384 0.35972 0.12963 C 0.36441 0.13889 0.36597 0.1375 0.37361 0.13334 C 0.37587 0.12431 0.37813 0.12639 0.38472 0.12408 C 0.3908 0.11597 0.39601 0.1125 0.40417 0.10926 C 0.40694 0.1081 0.4125 0.10556 0.4125 0.10556 C 0.41667 0.1 0.41806 0.09514 0.42361 0.09259 C 0.42622 0.08241 0.43108 0.07269 0.43472 0.06297 C 0.43924 0.05116 0.43733 0.03148 0.45 0.03148 E">
                                      <p:cBhvr>
                                        <p:cTn id="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0 C 0.029 -0.00602 0.04202 -0.01713 0.05417 -0.02778 C 0.05886 -0.03194 0.06563 -0.03426 0.07084 -0.03704 C 0.07917 -0.03634 0.0875 -0.03681 0.09584 -0.03519 C 0.09757 -0.03495 0.09844 -0.03241 0.1 -0.03148 C 0.104 -0.02917 0.10834 -0.02778 0.1125 -0.02593 C 0.11389 -0.02523 0.11667 -0.02407 0.11667 -0.02407 C 0.12552 -0.02477 0.1342 -0.025 0.14306 -0.02593 C 0.14827 -0.02662 0.15695 -0.03519 0.15695 -0.03519 C 0.16077 -0.04282 0.16302 -0.04375 0.16945 -0.0463 C 0.17223 -0.04745 0.17778 -0.05 0.17778 -0.05 C 0.18386 -0.04907 0.19393 -0.04884 0.2 -0.04444 C 0.21146 -0.03611 0.2191 -0.02662 0.23195 -0.02222 C 0.24115 -0.02292 0.25052 -0.02315 0.25973 -0.02407 C 0.26997 -0.02523 0.28021 -0.03102 0.29028 -0.03333 C 0.29688 -0.03125 0.29931 -0.0287 0.30417 -0.02222 C 0.30677 -0.01181 0.31025 -0.00417 0.31389 0.00556 C 0.31459 0.00741 0.31424 0.00972 0.31528 0.01111 C 0.31632 0.0125 0.31806 0.01204 0.31945 0.01296 C 0.32188 0.01458 0.32396 0.0169 0.32639 0.01852 E">
                                      <p:cBhvr>
                                        <p:cTn id="1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06 -0.00185 C 0.02223 0.00949 0.03073 0.0125 0.03889 0.01852 C 0.04723 0.02453 0.05556 0.03148 0.06389 0.03703 C 0.07639 0.04537 0.07275 0.04028 0.08473 0.04629 C 0.09688 0.05254 0.11059 0.05879 0.12223 0.06666 C 0.1342 0.07453 0.14115 0.08935 0.15139 0.1 C 0.16545 0.11458 0.16025 0.1081 0.16806 0.11852 C 0.16893 0.12222 0.17205 0.13241 0.17361 0.13518 C 0.17709 0.1412 0.19063 0.14861 0.19584 0.15 C 0.20608 0.14884 0.21632 0.14838 0.22639 0.14629 C 0.24254 0.14305 0.24167 0.13912 0.25695 0.13148 C 0.28577 0.11713 0.31407 0.10231 0.34306 0.08889 C 0.36216 0.08009 0.37986 0.06991 0.39844 0.05926 C 0.40261 0.05694 0.40677 0.05555 0.41094 0.0537 C 0.41476 0.05208 0.42223 0.05 0.42223 0.05 C 0.43438 0.03912 0.44601 0.04815 0.45695 0.05555 C 0.47622 0.05393 0.49584 0.0493 0.51389 0.03889 C 0.52049 0.03518 0.52379 0.02801 0.53056 0.02407 C 0.54098 0.01805 0.55174 0.01389 0.56111 0.00555 C 0.56476 -0.00185 0.56997 -0.00741 0.575 -0.01297 C 0.5842 -0.02315 0.57396 -0.01343 0.58334 -0.02778 C 0.58525 -0.03079 0.5882 -0.03241 0.59028 -0.03519 E">
                                      <p:cBhvr>
                                        <p:cTn id="1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11111E-006 C -0.00278 -0.00115 -0.00678 -0.00046 -0.00834 -0.0037 C -0.01268 -0.01227 -0.01685 -0.0243 -0.02223 -0.03148 C -0.03994 -0.02963 -0.0514 -0.02801 -0.06945 -0.02963 C -0.07831 -0.0375 -0.08646 -0.04259 -0.09723 -0.04259 E">
                                      <p:cBhvr>
                                        <p:cTn id="15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3.7037E-006 C -0.00746 0.00671 -0.01406 0.01088 -0.02083 0.01852 C -0.0243 0.02246 -0.03333 0.02593 -0.03333 0.02593 C -0.03732 0.03125 -0.04131 0.03449 -0.04444 0.04074 C -0.05798 0.03472 -0.04982 0.03727 -0.06944 0.03519 C -0.07916 0.03079 -0.07499 0.03033 -0.08194 0.03333 C -0.09114 0.0456 -0.08124 0.03403 -0.09027 0.04074 C -0.09322 0.04283 -0.0986 0.04815 -0.0986 0.04815 C -0.10902 0.04537 -0.11909 0.04144 -0.12916 0.03704 C -0.13072 0.03634 -0.13176 0.03403 -0.13333 0.03333 C -0.13558 0.03218 -0.13801 0.03218 -0.14027 0.03148 C -0.14635 0.03241 -0.15312 0.03125 -0.15833 0.03519 C -0.16006 0.03658 -0.16076 0.03958 -0.16249 0.04074 C -0.1651 0.04259 -0.16805 0.04329 -0.17083 0.04445 C -0.17638 0.04699 -0.18228 0.04653 -0.18749 0.05 E">
                                      <p:cBhvr>
                                        <p:cTn id="1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7037E-006 C -0.00087 -0.00186 -0.00139 -0.0044 -0.00278 -0.00556 C -0.00521 -0.00764 -0.01111 -0.00926 -0.01111 -0.00926 C -0.01389 -0.00857 -0.01701 -0.00926 -0.01944 -0.00741 C -0.02066 -0.00649 -0.02014 -0.00371 -0.02083 -0.00186 C -0.02326 0.00463 -0.02465 0.00902 -0.02917 0.01296 C -0.02969 0.01481 -0.02934 0.01736 -0.03056 0.01851 C -0.03299 0.02083 -0.03889 0.02222 -0.03889 0.02222 C -0.04444 0.02152 -0.05 0.02152 -0.05556 0.02037 C -0.06649 0.01782 -0.07378 0.00995 -0.08333 0.0037 E">
                                      <p:cBhvr>
                                        <p:cTn id="1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40741E-007 C -0.00972 -0.00856 -0.01198 -0.00509 -0.02639 -0.0037 C -0.03663 -0.00093 -0.03143 -0.0037 -0.04167 0.00556 C -0.04306 0.00671 -0.04584 0.00926 -0.04584 0.00926 C -0.05139 0.00741 -0.05712 0.00602 -0.0625 0.0037 C -0.08316 0.00625 -0.07952 0.00671 -0.10556 0.0037 C -0.1165 0.00255 -0.1224 -0.01134 -0.12917 -0.02037 C -0.13681 -0.03056 -0.14462 -0.03472 -0.15417 -0.03889 C -0.16215 -0.05486 -0.15156 -0.03611 -0.16111 -0.0463 C -0.17014 -0.05579 -0.15764 -0.04907 -0.16806 -0.0537 C -0.17587 -0.06157 -0.18525 -0.06435 -0.19445 -0.06852 C -0.21389 -0.07708 -0.20834 -0.06458 -0.2125 -0.07593 E">
                                      <p:cBhvr>
                                        <p:cTn id="2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04560" y="1447920"/>
            <a:ext cx="69339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who are sick with Hepatitis B do not produce enough interferon to kill all the Hepatitis B viruses.  So scientists think that injecting them with more interferon might turn on more immune cells to kill the Hepatitis B viru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ientists tested their treatment on 12 patients who were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ected with Hepatitis B. They got injections of interferon every two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eks for a year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8"/>
          <p:cNvSpPr/>
          <p:nvPr/>
        </p:nvSpPr>
        <p:spPr>
          <a:xfrm>
            <a:off x="685800" y="1143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6094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7848720" y="5943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2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419720" cy="909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1981080" y="5791320"/>
            <a:ext cx="487692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erson: Ask your group one question to check your understanding. Make sure you all agree on the  answers to each person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09480" y="228600"/>
            <a:ext cx="6400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cience New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News in Science, Reported Here Fir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5" descr=""/>
          <p:cNvPicPr/>
          <p:nvPr/>
        </p:nvPicPr>
        <p:blipFill>
          <a:blip r:embed="rId2"/>
          <a:stretch/>
        </p:blipFill>
        <p:spPr>
          <a:xfrm>
            <a:off x="7162920" y="1295280"/>
            <a:ext cx="1752480" cy="2971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6"/>
          <p:cNvSpPr/>
          <p:nvPr/>
        </p:nvSpPr>
        <p:spPr>
          <a:xfrm>
            <a:off x="304920" y="4191120"/>
            <a:ext cx="855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the treatments, all 12 patients had high levels of the Hepatitis B 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one year:  3 patients had no Hepatitis B virus in their blo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more patients had very, very low levels of the Hepatitis B vir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patients still had high levels of the Hepatitis B 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520" y="114300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ni Quiz!  Make sure you have the right answers, and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n write your answers in your packet, #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 back and re-read if you are not completely s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Which is true of interfero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 It is a protein that attacks and destroys vir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 It is a kind of cell that attacks and destroys virus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.  It is a protein that turns on the immune cells which attack the viru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What did the scientists do in the study to try to help Hepatitis patient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 They injected immune cells into 12 Hepatitis B patients for 1 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 They injected interferon into 12 Hepatitis B patients for 1 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.  They did blood tests on 12 Hepatitis B patients for 1 ye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685800" y="1143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6094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"/>
          <p:cNvPicPr/>
          <p:nvPr/>
        </p:nvPicPr>
        <p:blipFill>
          <a:blip r:embed="rId1"/>
          <a:stretch/>
        </p:blipFill>
        <p:spPr>
          <a:xfrm>
            <a:off x="4267080" y="152280"/>
            <a:ext cx="4419720" cy="909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2"/>
          <p:cNvSpPr/>
          <p:nvPr/>
        </p:nvSpPr>
        <p:spPr>
          <a:xfrm>
            <a:off x="609480" y="228600"/>
            <a:ext cx="6400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Jokerman"/>
              </a:rPr>
              <a:t>Science News B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News in Science, Reported Here Firs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8:45:36Z</dcterms:created>
  <dc:creator>Christen Drescher</dc:creator>
  <dc:description/>
  <dc:language>en-US</dc:language>
  <cp:lastModifiedBy>Ron</cp:lastModifiedBy>
  <dcterms:modified xsi:type="dcterms:W3CDTF">2013-04-04T03:15:28Z</dcterms:modified>
  <cp:revision>74</cp:revision>
  <dc:subject/>
  <dc:title>Slide 1</dc:title>
</cp:coreProperties>
</file>