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1DD5F-423B-4F00-810B-9434C708B62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0BF71-0F68-436D-A7EE-F874D0323B9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9F7-2638-4789-B793-D8F00B60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99C-50C1-4EDA-884A-A9B1390C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43F-F5DB-44F4-905C-6C6F2F61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6188-43D2-444C-B553-1F7BAF01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FB68-8DB3-4332-A06D-F984B746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A1AC-32F5-4C55-B011-EC0C79C4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754C-9BB7-438D-ABE4-CA554CF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719-61C6-4A00-9EE9-2BDEE4AE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CD15-F175-4D05-A586-FE10BB1B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BF00-785D-425A-A82E-9D1173A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B11-B0D0-45CC-BDA8-7FC7341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32B-F90F-454C-BA89-00F998AE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C6C6-0EB2-42C7-957F-9757AA686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Sam Spad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5760" y="35812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Kristen ITC"/>
              </a:rPr>
              <a:t>Innocent or Guil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rcRect l="4434" t="0" r="0" b="0"/>
          <a:stretch/>
        </p:blipFill>
        <p:spPr>
          <a:xfrm>
            <a:off x="830160" y="633240"/>
            <a:ext cx="1457280" cy="157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482760" y="457200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rcRect l="0" t="0" r="0" b="13919"/>
          <a:stretch/>
        </p:blipFill>
        <p:spPr>
          <a:xfrm>
            <a:off x="6172200" y="4572000"/>
            <a:ext cx="268596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"/>
          <p:cNvPicPr/>
          <p:nvPr/>
        </p:nvPicPr>
        <p:blipFill>
          <a:blip r:embed="rId4"/>
          <a:stretch/>
        </p:blipFill>
        <p:spPr>
          <a:xfrm>
            <a:off x="6534000" y="774720"/>
            <a:ext cx="1960560" cy="1293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6270480" y="6434280"/>
            <a:ext cx="2489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http://upload.wikimedia.org/wikipedia/commons/3/3d/Do_Not_Cross,_Crime_Scene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3960" y="6618240"/>
            <a:ext cx="2057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https://police.fullerton.edu/images/evidence.jp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685800" y="33480"/>
            <a:ext cx="7772400" cy="6824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will 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king for and giving reasons help you understand the evidence better and reach a better conclusion?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How will these four pieces of evidence will help you determine if Sam Spade committed the cr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09480" y="4419720"/>
            <a:ext cx="80773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Why are we giving reasons?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Why are we disagreeing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How will the arrows hel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5032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Cl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am Spade Day 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30.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ge 5 – It’s going to get messy!  How can we make it more organiz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t night to study for math Midter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99200" cy="6773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724280" y="525780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260f"/>
                </a:solidFill>
                <a:latin typeface="Arial"/>
                <a:ea typeface="Arial"/>
              </a:rPr>
              <a:t>MESSY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else can you organize the evidence and arrow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5" descr="Macintosh HD:Users:surbhiugra:Desktop:SS Screenshots:Screen shot 2013-01-02 at 12.25.19 PM.png"/>
          <p:cNvPicPr/>
          <p:nvPr/>
        </p:nvPicPr>
        <p:blipFill>
          <a:blip r:embed="rId1"/>
          <a:stretch/>
        </p:blipFill>
        <p:spPr>
          <a:xfrm>
            <a:off x="685800" y="12600"/>
            <a:ext cx="8001000" cy="6845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"/>
          <p:cNvPicPr/>
          <p:nvPr/>
        </p:nvPicPr>
        <p:blipFill>
          <a:blip r:embed="rId1"/>
          <a:srcRect l="0" t="0" r="0" b="45559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1"/>
          <a:srcRect l="0" t="6666" r="0" b="8298"/>
          <a:stretch/>
        </p:blipFill>
        <p:spPr>
          <a:xfrm>
            <a:off x="1219320" y="0"/>
            <a:ext cx="6234120" cy="6248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6" name="Picture 9" descr=""/>
          <p:cNvPicPr/>
          <p:nvPr/>
        </p:nvPicPr>
        <p:blipFill>
          <a:blip r:embed="rId2"/>
          <a:srcRect l="0" t="6666" r="0" b="0"/>
          <a:stretch/>
        </p:blipFill>
        <p:spPr>
          <a:xfrm>
            <a:off x="1219320" y="0"/>
            <a:ext cx="623412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7" name="Text Box 6"/>
          <p:cNvSpPr/>
          <p:nvPr/>
        </p:nvSpPr>
        <p:spPr>
          <a:xfrm>
            <a:off x="7467480" y="2514600"/>
            <a:ext cx="1676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ke changes 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260f"/>
                </a:solidFill>
                <a:latin typeface="Arial"/>
                <a:ea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543800" y="46483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  <a:ea typeface="Arial"/>
              </a:rPr>
              <a:t>What are your though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"/>
          <p:cNvPicPr/>
          <p:nvPr/>
        </p:nvPicPr>
        <p:blipFill>
          <a:blip r:embed="rId1"/>
          <a:srcRect l="0" t="0" r="0" b="23396"/>
          <a:stretch/>
        </p:blipFill>
        <p:spPr>
          <a:xfrm>
            <a:off x="838080" y="19080"/>
            <a:ext cx="7848720" cy="523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838080" y="19080"/>
            <a:ext cx="7848720" cy="6838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91" name="Text Box 6"/>
          <p:cNvSpPr/>
          <p:nvPr/>
        </p:nvSpPr>
        <p:spPr>
          <a:xfrm>
            <a:off x="1066680" y="5181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60f"/>
                </a:solidFill>
                <a:latin typeface="Arial"/>
                <a:ea typeface="Arial"/>
              </a:rPr>
              <a:t>DON’T CHANGE WHAT YOU WROTE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end and Support Your Choice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an. 29, 20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d introduction to Sam Sp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y for math mid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your claim with reas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and respond to others during discus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how evidence relates to mod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Evidence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lerk at the grocery store remembers receiving an unusual $10 bill a few minutes before closing. The bill was unusual because someone had written on it with bright red ink, “Peter + Julia.” The police found a $10 bill in Sam’s wallet that had “Peter + Julia” written on it in bright red ink. The clerk said that the bill looks like the same one that he sa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4038480" y="4648320"/>
            <a:ext cx="3953160" cy="1638360"/>
            <a:chOff x="4038480" y="4648320"/>
            <a:chExt cx="3953160" cy="1638360"/>
          </a:xfrm>
        </p:grpSpPr>
        <p:pic>
          <p:nvPicPr>
            <p:cNvPr id="97" name="Picture 5" descr=""/>
            <p:cNvPicPr/>
            <p:nvPr/>
          </p:nvPicPr>
          <p:blipFill>
            <a:blip r:embed="rId1"/>
            <a:stretch/>
          </p:blipFill>
          <p:spPr>
            <a:xfrm>
              <a:off x="4038480" y="4648320"/>
              <a:ext cx="3953160" cy="163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Ink 9" descr=""/>
            <p:cNvPicPr/>
            <p:nvPr/>
          </p:nvPicPr>
          <p:blipFill>
            <a:blip r:embed="rId2"/>
            <a:stretch/>
          </p:blipFill>
          <p:spPr>
            <a:xfrm>
              <a:off x="7309080" y="5254560"/>
              <a:ext cx="39852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scuss with your partner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1"/>
          <a:srcRect l="0" t="10163" r="0" b="61593"/>
          <a:stretch/>
        </p:blipFill>
        <p:spPr>
          <a:xfrm>
            <a:off x="0" y="585720"/>
            <a:ext cx="9144000" cy="18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rcRect l="0" t="38059" r="0" b="16629"/>
          <a:stretch/>
        </p:blipFill>
        <p:spPr>
          <a:xfrm>
            <a:off x="0" y="3505320"/>
            <a:ext cx="9144000" cy="2971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2" name="Text Box 6"/>
          <p:cNvSpPr/>
          <p:nvPr/>
        </p:nvSpPr>
        <p:spPr>
          <a:xfrm>
            <a:off x="2209680" y="28195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8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851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1981080" y="458640"/>
            <a:ext cx="5042160" cy="30355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6"/>
          <p:cNvSpPr/>
          <p:nvPr/>
        </p:nvSpPr>
        <p:spPr>
          <a:xfrm>
            <a:off x="2895480" y="1522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2895480" y="3478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4" descr=""/>
          <p:cNvPicPr/>
          <p:nvPr/>
        </p:nvPicPr>
        <p:blipFill>
          <a:blip r:embed="rId2"/>
          <a:stretch/>
        </p:blipFill>
        <p:spPr>
          <a:xfrm>
            <a:off x="2133720" y="3871800"/>
            <a:ext cx="496548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Macintosh HD:Users:surbhiugra:Desktop:SS Screenshots:Screen shot 2013-01-02 at 12.24.37 PM.png"/>
          <p:cNvPicPr/>
          <p:nvPr/>
        </p:nvPicPr>
        <p:blipFill>
          <a:blip r:embed="rId1"/>
          <a:srcRect l="0" t="0" r="0" b="65590"/>
          <a:stretch/>
        </p:blipFill>
        <p:spPr>
          <a:xfrm>
            <a:off x="0" y="1219320"/>
            <a:ext cx="9144000" cy="3821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Arr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85800" y="548640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en you are working with a partner, if you want to change any arrows, be sure to do it in </a:t>
            </a:r>
            <a:r>
              <a:rPr b="1" lang="en-US" sz="2800" spc="-1" strike="noStrike">
                <a:solidFill>
                  <a:srgbClr val="ff260f"/>
                </a:solidFill>
                <a:latin typeface="Arial"/>
                <a:ea typeface="Arial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Macintosh HD:Users:surbhiugra:Desktop:SS Screenshots:Screen shot 2013-01-02 at 12.24.37 PM.png"/>
          <p:cNvPicPr/>
          <p:nvPr/>
        </p:nvPicPr>
        <p:blipFill>
          <a:blip r:embed="rId1"/>
          <a:stretch/>
        </p:blipFill>
        <p:spPr>
          <a:xfrm>
            <a:off x="457200" y="0"/>
            <a:ext cx="56484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8" name="Text Box 5"/>
          <p:cNvSpPr/>
          <p:nvPr/>
        </p:nvSpPr>
        <p:spPr>
          <a:xfrm>
            <a:off x="6400800" y="2362320"/>
            <a:ext cx="2514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nt to make changes?  You can!  Just use </a:t>
            </a:r>
            <a:r>
              <a:rPr b="1" lang="en-US" sz="3200" spc="-1" strike="noStrike">
                <a:solidFill>
                  <a:srgbClr val="ff260f"/>
                </a:solidFill>
                <a:latin typeface="Arial"/>
                <a:ea typeface="Arial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8" descr="Macintosh HD:Users:surbhiugra:Desktop:SS Screenshots:Screen shot 2013-01-02 at 12.24.49 PM.png"/>
          <p:cNvPicPr/>
          <p:nvPr/>
        </p:nvPicPr>
        <p:blipFill>
          <a:blip r:embed="rId1"/>
          <a:srcRect l="0" t="0" r="0" b="42224"/>
          <a:stretch/>
        </p:blipFill>
        <p:spPr>
          <a:xfrm>
            <a:off x="152280" y="39600"/>
            <a:ext cx="8839440" cy="6742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Macintosh HD:Users:surbhiugra:Desktop:SS Screenshots:Screen shot 2013-01-02 at 12.24.49 PM.png"/>
          <p:cNvPicPr/>
          <p:nvPr/>
        </p:nvPicPr>
        <p:blipFill>
          <a:blip r:embed="rId1"/>
          <a:stretch/>
        </p:blipFill>
        <p:spPr>
          <a:xfrm>
            <a:off x="1600200" y="0"/>
            <a:ext cx="519444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1676160"/>
            <a:ext cx="830556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discussing, don’t forget to use the scientific language stems that we came up with in cla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7:00:38Z</dcterms:created>
  <dc:creator>Graduate School of Education - Rutgers University</dc:creator>
  <dc:description/>
  <dc:language>en-US</dc:language>
  <cp:lastModifiedBy>Graduate School of Education - Rutgers University</cp:lastModifiedBy>
  <dcterms:modified xsi:type="dcterms:W3CDTF">2014-04-28T15:36:22Z</dcterms:modified>
  <cp:revision>19</cp:revision>
  <dc:subject/>
  <dc:title>Sam Spade</dc:title>
</cp:coreProperties>
</file>